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  <p:sldId id="273" r:id="rId44"/>
    <p:sldId id="274" r:id="rId45"/>
    <p:sldId id="275" r:id="rId46"/>
    <p:sldId id="276" r:id="rId47"/>
    <p:sldId id="277" r:id="rId48"/>
    <p:sldId id="278" r:id="rId49"/>
    <p:sldId id="279" r:id="rId50"/>
    <p:sldId id="280" r:id="rId51"/>
    <p:sldId id="281" r:id="rId52"/>
    <p:sldId id="282" r:id="rId53"/>
    <p:sldId id="283" r:id="rId54"/>
    <p:sldId id="284" r:id="rId55"/>
    <p:sldId id="285" r:id="rId56"/>
    <p:sldId id="286" r:id="rId57"/>
    <p:sldId id="287" r:id="rId58"/>
    <p:sldId id="288" r:id="rId59"/>
    <p:sldId id="289" r:id="rId60"/>
    <p:sldId id="290" r:id="rId61"/>
    <p:sldId id="291" r:id="rId62"/>
    <p:sldId id="292" r:id="rId63"/>
    <p:sldId id="293" r:id="rId64"/>
    <p:sldId id="294" r:id="rId6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slide" Target="slides/slide18.xml"/><Relationship Id="rId45" Type="http://schemas.openxmlformats.org/officeDocument/2006/relationships/slide" Target="slides/slide19.xml"/><Relationship Id="rId46" Type="http://schemas.openxmlformats.org/officeDocument/2006/relationships/slide" Target="slides/slide20.xml"/><Relationship Id="rId47" Type="http://schemas.openxmlformats.org/officeDocument/2006/relationships/slide" Target="slides/slide21.xml"/><Relationship Id="rId48" Type="http://schemas.openxmlformats.org/officeDocument/2006/relationships/slide" Target="slides/slide22.xml"/><Relationship Id="rId49" Type="http://schemas.openxmlformats.org/officeDocument/2006/relationships/slide" Target="slides/slide23.xml"/><Relationship Id="rId50" Type="http://schemas.openxmlformats.org/officeDocument/2006/relationships/slide" Target="slides/slide24.xml"/><Relationship Id="rId51" Type="http://schemas.openxmlformats.org/officeDocument/2006/relationships/slide" Target="slides/slide25.xml"/><Relationship Id="rId52" Type="http://schemas.openxmlformats.org/officeDocument/2006/relationships/slide" Target="slides/slide26.xml"/><Relationship Id="rId53" Type="http://schemas.openxmlformats.org/officeDocument/2006/relationships/slide" Target="slides/slide27.xml"/><Relationship Id="rId54" Type="http://schemas.openxmlformats.org/officeDocument/2006/relationships/slide" Target="slides/slide28.xml"/><Relationship Id="rId55" Type="http://schemas.openxmlformats.org/officeDocument/2006/relationships/slide" Target="slides/slide29.xml"/><Relationship Id="rId56" Type="http://schemas.openxmlformats.org/officeDocument/2006/relationships/slide" Target="slides/slide30.xml"/><Relationship Id="rId57" Type="http://schemas.openxmlformats.org/officeDocument/2006/relationships/slide" Target="slides/slide31.xml"/><Relationship Id="rId58" Type="http://schemas.openxmlformats.org/officeDocument/2006/relationships/slide" Target="slides/slide32.xml"/><Relationship Id="rId59" Type="http://schemas.openxmlformats.org/officeDocument/2006/relationships/slide" Target="slides/slide33.xml"/><Relationship Id="rId60" Type="http://schemas.openxmlformats.org/officeDocument/2006/relationships/slide" Target="slides/slide34.xml"/><Relationship Id="rId61" Type="http://schemas.openxmlformats.org/officeDocument/2006/relationships/slide" Target="slides/slide35.xml"/><Relationship Id="rId62" Type="http://schemas.openxmlformats.org/officeDocument/2006/relationships/slide" Target="slides/slide36.xml"/><Relationship Id="rId63" Type="http://schemas.openxmlformats.org/officeDocument/2006/relationships/slide" Target="slides/slide37.xml"/><Relationship Id="rId64" Type="http://schemas.openxmlformats.org/officeDocument/2006/relationships/slide" Target="slides/slide38.xml"/><Relationship Id="rId65" Type="http://schemas.openxmlformats.org/officeDocument/2006/relationships/slide" Target="slides/slide39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 type="dt" idx="7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44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5"/>
          <p:cNvSpPr>
            <a:spLocks noGrp="1"/>
          </p:cNvSpPr>
          <p:nvPr>
            <p:ph type="ftr" idx="74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PlaceHolder 6"/>
          <p:cNvSpPr>
            <a:spLocks noGrp="1"/>
          </p:cNvSpPr>
          <p:nvPr>
            <p:ph type="sldNum" idx="75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2468C-1856-4087-99E1-71CBE26584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2FDEE-2116-46D3-98C8-051DE7A52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562C-854B-451B-9E3A-F0B04D746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207A-E1AD-4C39-A7EE-88BAAABB4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65F5E5-D07C-4B33-8BED-D4B206063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321020-D09A-46CF-AC14-FBB4E8786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62596D-8FB5-4B7E-9A6F-3B678AF9D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75D30A-A65F-4B5C-B9F9-DBC64EAF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81E1D8-71E3-4437-A16D-434EF09F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19B75C-C799-44A7-9F7D-18F920F29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010008-05A7-4983-A50C-5E6634713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EF4CD8-28C8-4C2C-BB49-311AFE498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3D5E9E-74D0-47E4-B2EB-249658B13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8FB239-68F7-4C13-A26E-969642B04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E9E9-D36F-4570-975A-B9ED4B04C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27FF3A-DDF3-4569-84D3-C2BEFA290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4538C1-5B81-4ABD-9E88-B7E1F0DE3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FEF868-2455-48CA-A978-8F0D59A4C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96692D-5B53-4D11-8AE2-624F753AB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3834AA-CA9E-46D2-B1F4-4B7862F36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E5E43A-184D-4590-9076-DBF4C4C8D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29AA18-C0F0-4F1A-BC44-DACAEFCF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21ECE7-8471-4C3F-8136-DADDD291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99A26D-AA0A-4D4C-A3F6-2A56D683D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9225E2-37BA-4DA3-957B-2BE6D7087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484B-9A7C-4657-9AFB-E25B4A76E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7968FA-7984-487F-BDB1-0EA23E03C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C884D9-4E31-40A0-A453-CC7CD3689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5A1F7F-428E-42E8-B263-5170C75D5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ED30BD-B428-4951-862A-E76D1E2D8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317A71-5D7F-4099-AD7F-7BD4F3ACA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F39068-2FA7-4887-BBDA-EBC5EE3DF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07AD31-6E20-4875-B486-25DFE2334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CD259F-03F7-48DF-A210-EF551534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AE73B5-7C3F-4494-B5E3-DEA613836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882B9D-8D5E-4F8C-9E29-5AEC2554B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2853A-BEF3-4ED2-AF6D-F0251FB1E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739A6F-4DEE-464C-BD44-39990CA80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F3EFE5-0951-4DC3-B368-386708CF6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68E9C5-6E9E-4747-A169-EDB2E8410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599D1C-D10C-4A63-9E8F-F994DA763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9E63BE-7DF5-4885-B648-541172A16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7B75F7-86E8-4CC6-BE78-F30AA323D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04B8B8-B369-4908-BF44-41A5399F2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56ED2A-9C25-48AF-A6EB-67FAD70D5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0B416E-9DD7-4EA8-8D26-CAEF56BA9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C2FE2A-766C-42AB-8E93-045BAFB60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411EC-A169-4C95-AE35-A917AE943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A4F5D5-910A-4C0C-97EE-6C58B62D6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95F96D-330F-450E-BCCD-B7AFC74E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71D990-B550-4200-88FF-7CCF93110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4714BC-48EA-4C44-AE93-877BBB419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09E82C-BAA2-4C2F-A17A-870172F41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0F10FD-639F-478B-913E-BD4B1A3D2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07D119-97F9-4E7F-8FEF-98D18BC15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83E035-C547-40E4-A0E5-4A3D3C858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DB8D27-8347-4148-9092-3B8DDDD12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CEB417-D8C6-4368-8D79-71C8F85FF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D1E5D-E819-48A8-812C-D66252CE1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B6E7A5-3B66-422F-90F7-F30ABDDF7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9D09DB-E7E5-489F-9ED8-C61844175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F7A82A-2729-4961-9879-5B7276DB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7496C0-CD02-4001-BD13-5DDCD4D44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AC04BC-60C1-43CF-AC1B-87B6A35DE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1FA5DC-A2D4-4766-AE98-5B42ADE98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3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3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7BE270-5FB7-4F89-AD7C-D289D96DE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FD0365-67AE-468B-82B1-BF43E4995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1B1439-C395-4722-98B9-33F7AD029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6E7B2D-8B71-475E-852B-1D1F81730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77800-8DF9-4A41-8516-A29498581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735CB9-3C9A-4295-8995-FFFE66794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F70AD9-3503-4061-86DF-C259A8645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DE2E80-CAD4-468D-9015-2885ACE1B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8CE782-36E9-4245-A1B0-B91635402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8ADD33-253E-47DB-927D-73C13EC1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F47535-E7ED-4A8E-87F1-D4198FE27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3D5B3F-F7C0-4B92-A8D2-FFEF4B41E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83050D-C72C-411A-A7E5-ED134DE83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0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0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2C5C59-FDB7-4794-830C-3C6499976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D6AE91-00DD-4E19-B36F-DCF5E0661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69032-6847-4F93-B0EF-83EAF4669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69ACD3-F4B7-43EC-9E3D-27DA21D95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B1C4A5-7D4F-4C7A-B7C8-47406F5F9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A75B1D-6195-400F-B1EA-BAC52C1A3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E76E57-DB20-49E7-B367-278C1598B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06ACED-C5B9-4F5A-9A67-1A07B9060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AE75AF-3B9C-485C-8FD0-DD1A5F4D7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435D0F-E144-4337-9D23-E383FC6F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F9A93A-9614-4367-BFB9-8C67BBF66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DF4336-18B6-4CBB-BB48-D78C305BF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B2860A-D6C2-4FB1-A87A-8CA8C10C6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5AAF4-3F5F-46BC-BE44-AA7D30770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D149E5-00E6-43A2-9675-64C8C6C40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7D3A9F-D509-408F-9CE1-0FBB743E3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515BB5-E379-4C41-85D3-8DA3BCA4B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88B3A6-110E-49BA-9582-560290565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B1B916-D2E8-4FEA-A7BD-78BE248B9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A354EE-221D-49EF-9DCA-224A81D0D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C6B9B2-EA4C-4862-9B19-D1F88FBF2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A1513F-D3B7-4472-BB02-9BFE67C8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9D13E9-B10D-4A3B-B461-A9E16829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781A7A-ABD8-448A-8EF6-C3183DB42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E58CD-D8FF-47F7-A881-0A8F092F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9069A2-6AE2-416B-8CCF-7172E9B50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4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75BFE2-18E9-48A3-936E-04A3BDD48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5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5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804190-3C77-4038-B46F-0236061E0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02DE54-6BC3-462F-BEAD-AE7EA1BDB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19805A-1435-4732-8518-B5D2FEA06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A61DA7-896E-468C-BD1B-EAEBB231D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467BC3-C122-4B17-AC73-719278425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6FBBDE-33C9-47AE-97D6-3B7A35812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E415A3-4698-4264-8DFC-6DCBBDE5C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A8BF72-AC12-4843-B652-78AC7A7E3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FBFE-DA9F-4F6B-8E6C-FAE83B0D7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05405-C50D-4BBC-B0C1-27D3F5E9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A93A53-C24D-45F3-A025-E1D2914D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000FAA-801E-4DD4-8724-4ACF62BE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B4E332-5318-4B2C-B2E1-04983ACFD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C5BE2E-3AEE-4A54-927B-53B007BD2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9279C9-48B1-4197-A908-2958CE700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17060E-252A-4067-A932-C007F6C84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BAB6B3-E6FE-421A-94A9-96868981A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4F82E1-7B9D-47BF-91E7-6CEC9B180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CCC158-235D-4A46-92A9-91C59D063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CEBD9B-EA8E-4D44-A79A-A0C83B6A2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0DC9D-0C4D-46E2-AC98-432DE1716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2ECB88-1B1F-4FB7-B444-E7F6F7785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EAE659-B0F3-400E-9F49-CE20BEC9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A0F345-F53E-4DAA-9C23-CBDEF057D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76EE42-C9D9-4F25-9696-231CA1F2C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1C8F21-DDB1-4CC8-9FA0-26F6407D2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75787E-A9BB-4213-96EE-55B1F1C67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3F21E2-8303-4AD1-B5B5-F08775CA4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4E91B5-326D-44CF-80C1-BD9B43682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C1F2E8-0ECB-4BF0-9D25-A811AFEC2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3A0582-D15D-4113-9467-7608A583B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07EEC-CB2C-4785-9492-E2898F4DD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84CE96-7AB6-469F-9B65-1858A10E1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87F68D-52AB-4FAE-AB66-781F9379A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A06F6A-97E9-47B8-8EB7-AFB1B3768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13A007-2B13-4ED0-AD14-A35C659C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332F63-F9E3-44AC-B58A-80DA3A657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4BF477-E21B-4460-87A8-E0CDE261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585791-9BAF-4C31-8CF1-B41D264A2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FAA358-3D39-4FEA-9049-FC62B22EB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BFA40A-11C2-41F3-8D0F-EB9BCD2DF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F7CC0A-A82B-4B04-9255-1EDF538CF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C3DAD-74E8-4BEA-8220-E4A3E2EEC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93B052-3331-45EB-8A73-BA64F6F49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38AA80-A47D-446B-967F-34AFA6D71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150B4B-A640-4B22-A9D9-A4F83F070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242A63-1D32-44A3-B62F-70C1CAF20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969980-501E-4204-802D-2ECE21CEF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899398-F6A6-4689-A0E7-F672D124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556944-52B9-45BA-B5E2-74AB6BA9D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EE1217-A71D-4DE4-AE2E-5E91B40B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6D242A-4792-4664-80A6-5521B6507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083DBF-DD64-4EE9-8772-4D3CB4DE5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EC5ED-B94C-4C10-9B39-9B873F02F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14FEC0-C722-4667-A900-76990BF35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954F41-5825-46DE-8764-CDE30D52A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1ACA1C-8308-4AA4-A017-527CE1C37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405D12-FD9C-4E93-8703-B57A9A849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471B35-D741-4F3B-94D1-564008EE1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CF374E-740C-4237-89B3-40B0FAFE5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44F4F7-F3AB-4A15-9603-509AB76EB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0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5BAFE8-7102-4841-A13E-CF7796DF3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0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D51C55-4E0A-45C3-A292-DFDADFA6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3399AD-65C5-4B05-B2DB-A8D54790B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EEF6C-9ECF-4B52-B05E-A6929F0A0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E542B2-16D4-432F-92F4-6C8CF44B3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1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E4B64A-4021-4931-857A-E5C80443D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E21950-87C8-426C-89BC-7A201F774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8640B6A-F3AA-41CB-8440-BEF5A13E9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D99C621-11F1-4E2B-8A6F-7470E6BB2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CF0A267-16BB-4847-93C5-1198F27E2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12C9D53-2099-40ED-BF4C-C7240339E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1C9A450-5083-48C2-BC54-333F09B9D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EE4DFF5-2C98-4E05-816B-63AD9123F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B9C7697-B80E-4F75-8CEF-02D96E777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A351D-A24C-40F4-9E41-7B7253438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48B78C5-5A8D-4081-8B9B-042A7B55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F56D409-0CDC-43DB-B46A-BBFA3863B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C3757EF-7323-4044-9F48-CA1E634BE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8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8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8B009ED-2804-424F-A6B2-9A7902233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9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9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9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9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D34745B-56C8-4958-B691-D41323271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F55911B-577B-4F3E-9D07-CEDDE1B32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0C28894-F7F4-4403-8797-790BFF05C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18349D4-CC67-48D9-9AFB-B9DD39AC7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F912692-304A-47BE-8D50-ACEBB0F18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0A76696-FF74-40F4-80A3-DC7DD3369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231C4-9DBD-468D-A87C-8F9F27A23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9380934-6B14-42C2-B010-054E527C1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365BE3B-37F2-4F91-BB7C-FE5ADF497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92C5D8B-2186-4037-8A45-AE93569AE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A687762-A74D-41B5-8F06-7DC25FC82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7AEFD98-0C20-4B71-B8D8-0296D4F7F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1C76B69-678A-44E9-9715-A0FE3941A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564FAEB-2A14-4ACB-94BE-687467A89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A4D8A79-9BAB-4984-8F10-7115D37C5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D0EEC5D-4C09-4519-B8CE-058DB2F37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2BBA4C7-5B67-4DF5-A418-B223E9AF2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A3B03-64B4-4878-B907-6021A33D1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0904644-A1DA-4F56-9894-D02A0BFC1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BC6D414-F8B4-426C-8279-9DF6127E1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66EAB62-3702-4AF6-8726-FD518AD2A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2A6D97C-3720-49AF-8AE9-9E63576C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5310FE0-68FD-41E8-97C8-A404B9D40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75A359A-FC28-4282-BA8D-34687B08B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B873B79-262C-479E-8418-E071619E8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5405460-1E64-4D60-BD8D-8569F5DA7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A8EA5CD-29CC-4C5B-897F-EC6DB81D2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E9859-17F2-4B1A-B4B0-96A0127DB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97D6-C6D6-4DE0-B581-9843AA547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963AA-02D9-4DBB-9036-05D4664A1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5C2F8-D3E3-4C7D-855F-F98DD761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02571-979C-4ECE-A291-EFFAF4BF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0BF80-D987-4B74-AED2-95B1CD5A3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B25C6-8D63-4F2F-BB3D-CE115A45E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5E4A6-48E8-4A2C-AB06-D19509BB6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E2F9F-76A8-4C45-883D-CAF0335C4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88C21-CFCE-4723-8131-42D590F11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57955-064F-4638-A641-831032008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957BE-236B-45F5-B833-43B4203C7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04F3-A40F-41C6-AF5E-B24EC599A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CE713-8733-45D9-A846-EF131FE2B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D9A2C-7A4D-4501-BD4D-625A83672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9FA80-3C84-4155-B3D5-50A870E66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D556E-8E5E-4692-9546-CA9BEFE3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44F2A-6A58-4DCE-A331-DD0D4D1E9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E7574-A3D4-461F-8C82-C502D38D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C52C4-6300-4ED3-AB76-791ABD6FC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BBE0C-BBBD-4B15-8BF0-E1A45E934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E0A9E-6204-4079-B63B-D336DC90D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156A7E-8F34-478E-B425-12B5B24CC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BA69-B3A5-4E40-9E02-10AE947C3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4F4E6F-3081-4A3A-AEF5-214E42BBF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11866B-F55C-4748-8A96-722894012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404BFC-BB23-40E2-9AFB-A787E6FF0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88E375-FC77-441B-A130-BA54EE5E4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65583D-6E02-4C5C-B96D-63B23F0A8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E3ED4-32B9-4849-AC0F-9F6003997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2943F0-1016-4FD8-B544-58C19F26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1E1CF6-914A-4429-8917-5054821C3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285771-1114-4A66-A327-EBAD3AFEB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1299EA-F46B-4D94-916F-CE7FF51A2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AEB1-9DA5-422F-AF54-00629D6A2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9428C5-5A65-4589-85B3-622765CE5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D63558-AF6B-4C48-9CFE-CB4A1E252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B30939-C304-4E03-A0DE-6B26B4F82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C9778E-CF7D-4005-BD2C-DE15FA1FD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1BF8A1-D105-426D-999D-C92EBC79A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2545BA-40BE-4A56-970C-FEC01F588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706DF8-FEE5-47A8-A8C5-6E804BCF3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E25BE6-BDBD-47AF-8245-6BAF69BE6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9BFDD7-BE9B-41B1-AEC9-C6BF7747C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0C85F0-D492-4362-8A53-A360445EF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B18D-615C-49A5-B18A-A6C28564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2A4660-26F5-4DC0-9FEC-C200AB368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BB8E40-0966-4419-A043-1DECA6A97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CB64F1-3C91-4726-90B0-D14E85807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D6503E-3985-4AC7-B4D2-C01B9ED12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31B81E-E1BA-4490-B518-8916A17EE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462DAB-50DA-4509-88A5-5C0E9DD30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FAFA2D-62C7-4AA9-B7B5-9F18933E2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9CB3B2-203B-462B-99DE-99EF54483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550BC4-D499-4FF4-BFCF-12F1D4D78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46210E-53CF-436F-9505-D35E205F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80F4-9FDF-427F-9FF1-4A4FC856D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FBA412-0B84-4558-9D35-6A515916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B0232E-974E-4C63-AFDE-55F8EF865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94F576-1638-421D-8FCA-980620BD1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D4280D-5C25-4BC0-81F3-BA57665F4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CD54A3-0469-4BA3-9A8B-6860B07DD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3AD22C-FD25-47B8-B982-77751A02E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0DA054-30ED-4E08-BC1C-DB0FADC93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4FF63B-99E7-4B21-8A58-62C18D85E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DED7DF-5DA9-40E6-BB69-D1E2C98A6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CD0705-2210-4A47-865E-EA9A8DC60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120B-1D2E-4893-8838-EB8309469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FE1590-1472-427D-AC04-815E44053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E366EC-6D50-4CC8-BA1A-ABC3A8587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03DFD1-80DF-4E76-9D9F-557F3B727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47A0FA-1720-4708-BEB0-81FA1CC56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40380C-279D-4A5E-8B84-471DD6C64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27AA53-54E1-4A42-A917-6D8E2DC03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F1D7B2-0FCF-4C9C-B305-CCEE3A7E2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00EBC4-1B81-454A-B392-DA4AB9BCF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7E3C12-3C15-4BCA-A545-AE92D1141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F86412-7F2D-4DEF-9AC8-14F7468E3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81.xml"/><Relationship Id="rId8" Type="http://schemas.openxmlformats.org/officeDocument/2006/relationships/slideLayout" Target="../slideLayouts/slideLayout182.xml"/><Relationship Id="rId9" Type="http://schemas.openxmlformats.org/officeDocument/2006/relationships/slideLayout" Target="../slideLayouts/slideLayout183.xml"/><Relationship Id="rId10" Type="http://schemas.openxmlformats.org/officeDocument/2006/relationships/slideLayout" Target="../slideLayouts/slideLayout184.xml"/><Relationship Id="rId11" Type="http://schemas.openxmlformats.org/officeDocument/2006/relationships/slideLayout" Target="../slideLayouts/slideLayout185.xml"/><Relationship Id="rId12" Type="http://schemas.openxmlformats.org/officeDocument/2006/relationships/slideLayout" Target="../slideLayouts/slideLayout186.xml"/><Relationship Id="rId13" Type="http://schemas.openxmlformats.org/officeDocument/2006/relationships/slideLayout" Target="../slideLayouts/slideLayout187.xml"/><Relationship Id="rId14" Type="http://schemas.openxmlformats.org/officeDocument/2006/relationships/slideLayout" Target="../slideLayouts/slideLayout188.xml"/><Relationship Id="rId15" Type="http://schemas.openxmlformats.org/officeDocument/2006/relationships/slideLayout" Target="../slideLayouts/slideLayout189.xml"/><Relationship Id="rId16" Type="http://schemas.openxmlformats.org/officeDocument/2006/relationships/slideLayout" Target="../slideLayouts/slideLayout190.xml"/><Relationship Id="rId17" Type="http://schemas.openxmlformats.org/officeDocument/2006/relationships/slideLayout" Target="../slideLayouts/slideLayout191.xml"/><Relationship Id="rId18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93.xml"/><Relationship Id="rId8" Type="http://schemas.openxmlformats.org/officeDocument/2006/relationships/slideLayout" Target="../slideLayouts/slideLayout194.xml"/><Relationship Id="rId9" Type="http://schemas.openxmlformats.org/officeDocument/2006/relationships/slideLayout" Target="../slideLayouts/slideLayout195.xml"/><Relationship Id="rId10" Type="http://schemas.openxmlformats.org/officeDocument/2006/relationships/slideLayout" Target="../slideLayouts/slideLayout196.xml"/><Relationship Id="rId11" Type="http://schemas.openxmlformats.org/officeDocument/2006/relationships/slideLayout" Target="../slideLayouts/slideLayout197.xml"/><Relationship Id="rId12" Type="http://schemas.openxmlformats.org/officeDocument/2006/relationships/slideLayout" Target="../slideLayouts/slideLayout198.xml"/><Relationship Id="rId13" Type="http://schemas.openxmlformats.org/officeDocument/2006/relationships/slideLayout" Target="../slideLayouts/slideLayout199.xml"/><Relationship Id="rId14" Type="http://schemas.openxmlformats.org/officeDocument/2006/relationships/slideLayout" Target="../slideLayouts/slideLayout200.xml"/><Relationship Id="rId15" Type="http://schemas.openxmlformats.org/officeDocument/2006/relationships/slideLayout" Target="../slideLayouts/slideLayout201.xml"/><Relationship Id="rId16" Type="http://schemas.openxmlformats.org/officeDocument/2006/relationships/slideLayout" Target="../slideLayouts/slideLayout202.xml"/><Relationship Id="rId17" Type="http://schemas.openxmlformats.org/officeDocument/2006/relationships/slideLayout" Target="../slideLayouts/slideLayout203.xml"/><Relationship Id="rId18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05.xml"/><Relationship Id="rId8" Type="http://schemas.openxmlformats.org/officeDocument/2006/relationships/slideLayout" Target="../slideLayouts/slideLayout206.xml"/><Relationship Id="rId9" Type="http://schemas.openxmlformats.org/officeDocument/2006/relationships/slideLayout" Target="../slideLayouts/slideLayout207.xml"/><Relationship Id="rId10" Type="http://schemas.openxmlformats.org/officeDocument/2006/relationships/slideLayout" Target="../slideLayouts/slideLayout208.xml"/><Relationship Id="rId11" Type="http://schemas.openxmlformats.org/officeDocument/2006/relationships/slideLayout" Target="../slideLayouts/slideLayout209.xml"/><Relationship Id="rId12" Type="http://schemas.openxmlformats.org/officeDocument/2006/relationships/slideLayout" Target="../slideLayouts/slideLayout210.xml"/><Relationship Id="rId13" Type="http://schemas.openxmlformats.org/officeDocument/2006/relationships/slideLayout" Target="../slideLayouts/slideLayout211.xml"/><Relationship Id="rId14" Type="http://schemas.openxmlformats.org/officeDocument/2006/relationships/slideLayout" Target="../slideLayouts/slideLayout212.xml"/><Relationship Id="rId15" Type="http://schemas.openxmlformats.org/officeDocument/2006/relationships/slideLayout" Target="../slideLayouts/slideLayout213.xml"/><Relationship Id="rId16" Type="http://schemas.openxmlformats.org/officeDocument/2006/relationships/slideLayout" Target="../slideLayouts/slideLayout214.xml"/><Relationship Id="rId17" Type="http://schemas.openxmlformats.org/officeDocument/2006/relationships/slideLayout" Target="../slideLayouts/slideLayout215.xml"/><Relationship Id="rId18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29.xml"/><Relationship Id="rId8" Type="http://schemas.openxmlformats.org/officeDocument/2006/relationships/slideLayout" Target="../slideLayouts/slideLayout230.xml"/><Relationship Id="rId9" Type="http://schemas.openxmlformats.org/officeDocument/2006/relationships/slideLayout" Target="../slideLayouts/slideLayout231.xml"/><Relationship Id="rId10" Type="http://schemas.openxmlformats.org/officeDocument/2006/relationships/slideLayout" Target="../slideLayouts/slideLayout232.xml"/><Relationship Id="rId11" Type="http://schemas.openxmlformats.org/officeDocument/2006/relationships/slideLayout" Target="../slideLayouts/slideLayout233.xml"/><Relationship Id="rId12" Type="http://schemas.openxmlformats.org/officeDocument/2006/relationships/slideLayout" Target="../slideLayouts/slideLayout234.xml"/><Relationship Id="rId13" Type="http://schemas.openxmlformats.org/officeDocument/2006/relationships/slideLayout" Target="../slideLayouts/slideLayout235.xml"/><Relationship Id="rId14" Type="http://schemas.openxmlformats.org/officeDocument/2006/relationships/slideLayout" Target="../slideLayouts/slideLayout236.xml"/><Relationship Id="rId15" Type="http://schemas.openxmlformats.org/officeDocument/2006/relationships/slideLayout" Target="../slideLayouts/slideLayout237.xml"/><Relationship Id="rId16" Type="http://schemas.openxmlformats.org/officeDocument/2006/relationships/slideLayout" Target="../slideLayouts/slideLayout238.xml"/><Relationship Id="rId17" Type="http://schemas.openxmlformats.org/officeDocument/2006/relationships/slideLayout" Target="../slideLayouts/slideLayout239.xml"/><Relationship Id="rId18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41.xml"/><Relationship Id="rId8" Type="http://schemas.openxmlformats.org/officeDocument/2006/relationships/slideLayout" Target="../slideLayouts/slideLayout242.xml"/><Relationship Id="rId9" Type="http://schemas.openxmlformats.org/officeDocument/2006/relationships/slideLayout" Target="../slideLayouts/slideLayout243.xml"/><Relationship Id="rId10" Type="http://schemas.openxmlformats.org/officeDocument/2006/relationships/slideLayout" Target="../slideLayouts/slideLayout244.xml"/><Relationship Id="rId11" Type="http://schemas.openxmlformats.org/officeDocument/2006/relationships/slideLayout" Target="../slideLayouts/slideLayout245.xml"/><Relationship Id="rId12" Type="http://schemas.openxmlformats.org/officeDocument/2006/relationships/slideLayout" Target="../slideLayouts/slideLayout246.xml"/><Relationship Id="rId13" Type="http://schemas.openxmlformats.org/officeDocument/2006/relationships/slideLayout" Target="../slideLayouts/slideLayout247.xml"/><Relationship Id="rId14" Type="http://schemas.openxmlformats.org/officeDocument/2006/relationships/slideLayout" Target="../slideLayouts/slideLayout248.xml"/><Relationship Id="rId15" Type="http://schemas.openxmlformats.org/officeDocument/2006/relationships/slideLayout" Target="../slideLayouts/slideLayout249.xml"/><Relationship Id="rId16" Type="http://schemas.openxmlformats.org/officeDocument/2006/relationships/slideLayout" Target="../slideLayouts/slideLayout250.xml"/><Relationship Id="rId17" Type="http://schemas.openxmlformats.org/officeDocument/2006/relationships/slideLayout" Target="../slideLayouts/slideLayout251.xml"/><Relationship Id="rId18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53.xml"/><Relationship Id="rId8" Type="http://schemas.openxmlformats.org/officeDocument/2006/relationships/slideLayout" Target="../slideLayouts/slideLayout254.xml"/><Relationship Id="rId9" Type="http://schemas.openxmlformats.org/officeDocument/2006/relationships/slideLayout" Target="../slideLayouts/slideLayout255.xml"/><Relationship Id="rId10" Type="http://schemas.openxmlformats.org/officeDocument/2006/relationships/slideLayout" Target="../slideLayouts/slideLayout256.xml"/><Relationship Id="rId11" Type="http://schemas.openxmlformats.org/officeDocument/2006/relationships/slideLayout" Target="../slideLayouts/slideLayout257.xml"/><Relationship Id="rId12" Type="http://schemas.openxmlformats.org/officeDocument/2006/relationships/slideLayout" Target="../slideLayouts/slideLayout258.xml"/><Relationship Id="rId13" Type="http://schemas.openxmlformats.org/officeDocument/2006/relationships/slideLayout" Target="../slideLayouts/slideLayout259.xml"/><Relationship Id="rId14" Type="http://schemas.openxmlformats.org/officeDocument/2006/relationships/slideLayout" Target="../slideLayouts/slideLayout260.xml"/><Relationship Id="rId15" Type="http://schemas.openxmlformats.org/officeDocument/2006/relationships/slideLayout" Target="../slideLayouts/slideLayout261.xml"/><Relationship Id="rId16" Type="http://schemas.openxmlformats.org/officeDocument/2006/relationships/slideLayout" Target="../slideLayouts/slideLayout262.xml"/><Relationship Id="rId17" Type="http://schemas.openxmlformats.org/officeDocument/2006/relationships/slideLayout" Target="../slideLayouts/slideLayout263.xml"/><Relationship Id="rId18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65.xml"/><Relationship Id="rId8" Type="http://schemas.openxmlformats.org/officeDocument/2006/relationships/slideLayout" Target="../slideLayouts/slideLayout266.xml"/><Relationship Id="rId9" Type="http://schemas.openxmlformats.org/officeDocument/2006/relationships/slideLayout" Target="../slideLayouts/slideLayout267.xml"/><Relationship Id="rId10" Type="http://schemas.openxmlformats.org/officeDocument/2006/relationships/slideLayout" Target="../slideLayouts/slideLayout268.xml"/><Relationship Id="rId11" Type="http://schemas.openxmlformats.org/officeDocument/2006/relationships/slideLayout" Target="../slideLayouts/slideLayout269.xml"/><Relationship Id="rId12" Type="http://schemas.openxmlformats.org/officeDocument/2006/relationships/slideLayout" Target="../slideLayouts/slideLayout270.xml"/><Relationship Id="rId13" Type="http://schemas.openxmlformats.org/officeDocument/2006/relationships/slideLayout" Target="../slideLayouts/slideLayout271.xml"/><Relationship Id="rId14" Type="http://schemas.openxmlformats.org/officeDocument/2006/relationships/slideLayout" Target="../slideLayouts/slideLayout272.xml"/><Relationship Id="rId15" Type="http://schemas.openxmlformats.org/officeDocument/2006/relationships/slideLayout" Target="../slideLayouts/slideLayout273.xml"/><Relationship Id="rId16" Type="http://schemas.openxmlformats.org/officeDocument/2006/relationships/slideLayout" Target="../slideLayouts/slideLayout274.xml"/><Relationship Id="rId17" Type="http://schemas.openxmlformats.org/officeDocument/2006/relationships/slideLayout" Target="../slideLayouts/slideLayout275.xml"/><Relationship Id="rId18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77.xml"/><Relationship Id="rId8" Type="http://schemas.openxmlformats.org/officeDocument/2006/relationships/slideLayout" Target="../slideLayouts/slideLayout278.xml"/><Relationship Id="rId9" Type="http://schemas.openxmlformats.org/officeDocument/2006/relationships/slideLayout" Target="../slideLayouts/slideLayout279.xml"/><Relationship Id="rId10" Type="http://schemas.openxmlformats.org/officeDocument/2006/relationships/slideLayout" Target="../slideLayouts/slideLayout280.xml"/><Relationship Id="rId11" Type="http://schemas.openxmlformats.org/officeDocument/2006/relationships/slideLayout" Target="../slideLayouts/slideLayout281.xml"/><Relationship Id="rId12" Type="http://schemas.openxmlformats.org/officeDocument/2006/relationships/slideLayout" Target="../slideLayouts/slideLayout282.xml"/><Relationship Id="rId13" Type="http://schemas.openxmlformats.org/officeDocument/2006/relationships/slideLayout" Target="../slideLayouts/slideLayout283.xml"/><Relationship Id="rId14" Type="http://schemas.openxmlformats.org/officeDocument/2006/relationships/slideLayout" Target="../slideLayouts/slideLayout284.xml"/><Relationship Id="rId15" Type="http://schemas.openxmlformats.org/officeDocument/2006/relationships/slideLayout" Target="../slideLayouts/slideLayout285.xml"/><Relationship Id="rId16" Type="http://schemas.openxmlformats.org/officeDocument/2006/relationships/slideLayout" Target="../slideLayouts/slideLayout286.xml"/><Relationship Id="rId17" Type="http://schemas.openxmlformats.org/officeDocument/2006/relationships/slideLayout" Target="../slideLayouts/slideLayout287.xml"/><Relationship Id="rId18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623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F6C33-74A7-4A31-8F3C-FBF0008386BE}" type="slidenum"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52" descr="13"/>
          <p:cNvPicPr/>
          <p:nvPr/>
        </p:nvPicPr>
        <p:blipFill>
          <a:blip r:embed="rId2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53" descr="15"/>
          <p:cNvPicPr/>
          <p:nvPr/>
        </p:nvPicPr>
        <p:blipFill>
          <a:blip r:embed="rId3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7" name="Picture 57" descr="logo(trasparance)2"/>
          <p:cNvPicPr/>
          <p:nvPr/>
        </p:nvPicPr>
        <p:blipFill>
          <a:blip r:embed="rId4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15"/>
          <p:cNvPicPr/>
          <p:nvPr/>
        </p:nvPicPr>
        <p:blipFill>
          <a:blip r:embed="rId5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57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0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02210-0C16-411C-B89B-11127CF459E6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1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64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 type="sldNum" idx="3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C4EA8-AB65-498C-A12C-8CB96C154DA9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7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718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72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 type="sldNum" idx="36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72867-432E-4386-B931-3DA7C4E32FCA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6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791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792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79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 type="sldNum" idx="3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23DE3-D690-4EA3-A3F0-EE10A60EC501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5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3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864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865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866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86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BE821-9E91-4999-AD7A-AA511E548B8F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1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2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6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940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 type="sldNum" idx="45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BE5E3-E20B-4761-86A5-F1153440DD46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9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101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TextBox 65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1" i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TextBox 66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1" i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 type="sldNum" idx="48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B6CF0-451C-49C3-9E03-DF0496C2C6D3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7"/>
    <p:sldLayoutId id="2147483845" r:id="rId8"/>
    <p:sldLayoutId id="2147483846" r:id="rId9"/>
    <p:sldLayoutId id="2147483847" r:id="rId10"/>
    <p:sldLayoutId id="2147483848" r:id="rId11"/>
    <p:sldLayoutId id="2147483849" r:id="rId12"/>
    <p:sldLayoutId id="2147483850" r:id="rId13"/>
    <p:sldLayoutId id="2147483851" r:id="rId14"/>
    <p:sldLayoutId id="2147483852" r:id="rId15"/>
    <p:sldLayoutId id="2147483853" r:id="rId16"/>
    <p:sldLayoutId id="2147483854" r:id="rId17"/>
    <p:sldLayoutId id="2147483855" r:id="rId18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5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7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4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1086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1088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5"/>
          <p:cNvSpPr>
            <a:spLocks noGrp="1"/>
          </p:cNvSpPr>
          <p:nvPr>
            <p:ph type="sldNum" idx="51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6C7D3-2085-4BE9-A683-E638C9B4D72C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7"/>
    <p:sldLayoutId id="2147483858" r:id="rId8"/>
    <p:sldLayoutId id="2147483859" r:id="rId9"/>
    <p:sldLayoutId id="2147483860" r:id="rId10"/>
    <p:sldLayoutId id="2147483861" r:id="rId11"/>
    <p:sldLayoutId id="2147483862" r:id="rId12"/>
    <p:sldLayoutId id="2147483863" r:id="rId13"/>
    <p:sldLayoutId id="2147483864" r:id="rId14"/>
    <p:sldLayoutId id="2147483865" r:id="rId15"/>
    <p:sldLayoutId id="2147483866" r:id="rId16"/>
    <p:sldLayoutId id="2147483867" r:id="rId17"/>
    <p:sldLayoutId id="2147483868" r:id="rId18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3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4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7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1158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1159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1160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1161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TextBox 65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1" i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TextBox 66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1" i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 type="dt" idx="5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 type="ftr" idx="5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 type="sldNum" idx="54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C78E3-BB54-4003-B3A7-B23510B407EB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7"/>
    <p:sldLayoutId id="2147483871" r:id="rId8"/>
    <p:sldLayoutId id="2147483872" r:id="rId9"/>
    <p:sldLayoutId id="2147483873" r:id="rId10"/>
    <p:sldLayoutId id="2147483874" r:id="rId11"/>
    <p:sldLayoutId id="2147483875" r:id="rId12"/>
    <p:sldLayoutId id="2147483876" r:id="rId13"/>
    <p:sldLayoutId id="2147483877" r:id="rId14"/>
    <p:sldLayoutId id="2147483878" r:id="rId15"/>
    <p:sldLayoutId id="2147483879" r:id="rId16"/>
    <p:sldLayoutId id="2147483880" r:id="rId17"/>
    <p:sldLayoutId id="2147483881" r:id="rId18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20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21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2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1233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1234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1235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123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 type="dt" idx="5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 type="ftr" idx="5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5"/>
          <p:cNvSpPr>
            <a:spLocks noGrp="1"/>
          </p:cNvSpPr>
          <p:nvPr>
            <p:ph type="sldNum" idx="57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0565E-DC08-497F-BC45-7598EB158CEB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 type="sldNum" idx="6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762B8-5C06-477B-B2CA-84248B4C936F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27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29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5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1306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1307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1308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13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 type="dt" idx="5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 type="ftr" idx="5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5"/>
          <p:cNvSpPr>
            <a:spLocks noGrp="1"/>
          </p:cNvSpPr>
          <p:nvPr>
            <p:ph type="sldNum" idx="60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F03F0-8D54-4C11-A70A-2BC4F2A3415B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7"/>
    <p:sldLayoutId id="2147483897" r:id="rId8"/>
    <p:sldLayoutId id="2147483898" r:id="rId9"/>
    <p:sldLayoutId id="2147483899" r:id="rId10"/>
    <p:sldLayoutId id="2147483900" r:id="rId11"/>
    <p:sldLayoutId id="2147483901" r:id="rId12"/>
    <p:sldLayoutId id="2147483902" r:id="rId13"/>
    <p:sldLayoutId id="2147483903" r:id="rId14"/>
    <p:sldLayoutId id="2147483904" r:id="rId15"/>
    <p:sldLayoutId id="2147483905" r:id="rId16"/>
    <p:sldLayoutId id="2147483906" r:id="rId17"/>
    <p:sldLayoutId id="2147483907" r:id="rId18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3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8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1379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1380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1381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138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 type="dt" idx="6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4"/>
          <p:cNvSpPr>
            <a:spLocks noGrp="1"/>
          </p:cNvSpPr>
          <p:nvPr>
            <p:ph type="ftr" idx="6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5"/>
          <p:cNvSpPr>
            <a:spLocks noGrp="1"/>
          </p:cNvSpPr>
          <p:nvPr>
            <p:ph type="sldNum" idx="6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6F9A6-3023-4878-972B-C01F919FB4AE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7"/>
    <p:sldLayoutId id="2147483910" r:id="rId8"/>
    <p:sldLayoutId id="2147483911" r:id="rId9"/>
    <p:sldLayoutId id="2147483912" r:id="rId10"/>
    <p:sldLayoutId id="2147483913" r:id="rId11"/>
    <p:sldLayoutId id="2147483914" r:id="rId12"/>
    <p:sldLayoutId id="2147483915" r:id="rId13"/>
    <p:sldLayoutId id="2147483916" r:id="rId14"/>
    <p:sldLayoutId id="2147483917" r:id="rId15"/>
    <p:sldLayoutId id="2147483918" r:id="rId16"/>
    <p:sldLayoutId id="2147483919" r:id="rId17"/>
    <p:sldLayoutId id="2147483920" r:id="rId18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42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3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1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1452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1453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1454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 type="dt" idx="6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4"/>
          <p:cNvSpPr>
            <a:spLocks noGrp="1"/>
          </p:cNvSpPr>
          <p:nvPr>
            <p:ph type="ftr" idx="6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5"/>
          <p:cNvSpPr>
            <a:spLocks noGrp="1"/>
          </p:cNvSpPr>
          <p:nvPr>
            <p:ph type="sldNum" idx="66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0A715-1D3B-4033-A703-1D0F6BD17AFC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7"/>
    <p:sldLayoutId id="2147483923" r:id="rId8"/>
    <p:sldLayoutId id="2147483924" r:id="rId9"/>
    <p:sldLayoutId id="2147483925" r:id="rId10"/>
    <p:sldLayoutId id="2147483926" r:id="rId11"/>
    <p:sldLayoutId id="2147483927" r:id="rId12"/>
    <p:sldLayoutId id="2147483928" r:id="rId13"/>
    <p:sldLayoutId id="2147483929" r:id="rId14"/>
    <p:sldLayoutId id="2147483930" r:id="rId15"/>
    <p:sldLayoutId id="2147483931" r:id="rId16"/>
    <p:sldLayoutId id="2147483932" r:id="rId17"/>
    <p:sldLayoutId id="2147483933" r:id="rId18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49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3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1524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1525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1526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 type="dt" idx="6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PlaceHolder 4"/>
          <p:cNvSpPr>
            <a:spLocks noGrp="1"/>
          </p:cNvSpPr>
          <p:nvPr>
            <p:ph type="ftr" idx="6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5"/>
          <p:cNvSpPr>
            <a:spLocks noGrp="1"/>
          </p:cNvSpPr>
          <p:nvPr>
            <p:ph type="sldNum" idx="6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10C21-4779-4BCF-9199-2141A3B2867A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7"/>
    <p:sldLayoutId id="2147483936" r:id="rId8"/>
    <p:sldLayoutId id="2147483937" r:id="rId9"/>
    <p:sldLayoutId id="2147483938" r:id="rId10"/>
    <p:sldLayoutId id="2147483939" r:id="rId11"/>
    <p:sldLayoutId id="2147483940" r:id="rId12"/>
    <p:sldLayoutId id="2147483941" r:id="rId13"/>
    <p:sldLayoutId id="2147483942" r:id="rId14"/>
    <p:sldLayoutId id="2147483943" r:id="rId15"/>
    <p:sldLayoutId id="2147483944" r:id="rId16"/>
    <p:sldLayoutId id="2147483945" r:id="rId17"/>
    <p:sldLayoutId id="2147483946" r:id="rId18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5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5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1596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1597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1598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 type="dt" idx="7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 type="ftr" idx="7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5"/>
          <p:cNvSpPr>
            <a:spLocks noGrp="1"/>
          </p:cNvSpPr>
          <p:nvPr>
            <p:ph type="sldNum" idx="72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5F71A-5452-42D2-A372-59763D3F6DCD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7"/>
    <p:sldLayoutId id="2147483949" r:id="rId8"/>
    <p:sldLayoutId id="2147483950" r:id="rId9"/>
    <p:sldLayoutId id="2147483951" r:id="rId10"/>
    <p:sldLayoutId id="2147483952" r:id="rId11"/>
    <p:sldLayoutId id="2147483953" r:id="rId12"/>
    <p:sldLayoutId id="2147483954" r:id="rId13"/>
    <p:sldLayoutId id="2147483955" r:id="rId14"/>
    <p:sldLayoutId id="2147483956" r:id="rId15"/>
    <p:sldLayoutId id="2147483957" r:id="rId16"/>
    <p:sldLayoutId id="2147483958" r:id="rId17"/>
    <p:sldLayoutId id="2147483959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2" descr="13"/>
          <p:cNvPicPr/>
          <p:nvPr/>
        </p:nvPicPr>
        <p:blipFill>
          <a:blip r:embed="rId2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3" descr="15"/>
          <p:cNvPicPr/>
          <p:nvPr/>
        </p:nvPicPr>
        <p:blipFill>
          <a:blip r:embed="rId3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7" descr="logo(trasparance)2"/>
          <p:cNvPicPr/>
          <p:nvPr/>
        </p:nvPicPr>
        <p:blipFill>
          <a:blip r:embed="rId4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8" descr="15"/>
          <p:cNvPicPr/>
          <p:nvPr/>
        </p:nvPicPr>
        <p:blipFill>
          <a:blip r:embed="rId5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64623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8B939-AA5F-4E36-882A-AF1907BDDF2B}" type="slidenum"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52" descr="13"/>
          <p:cNvPicPr/>
          <p:nvPr/>
        </p:nvPicPr>
        <p:blipFill>
          <a:blip r:embed="rId2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3" descr="15"/>
          <p:cNvPicPr/>
          <p:nvPr/>
        </p:nvPicPr>
        <p:blipFill>
          <a:blip r:embed="rId3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7" descr="logo(trasparance)2"/>
          <p:cNvPicPr/>
          <p:nvPr/>
        </p:nvPicPr>
        <p:blipFill>
          <a:blip r:embed="rId4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8" descr="15"/>
          <p:cNvPicPr/>
          <p:nvPr/>
        </p:nvPicPr>
        <p:blipFill>
          <a:blip r:embed="rId5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2"/>
          </p:nvPr>
        </p:nvSpPr>
        <p:spPr>
          <a:xfrm>
            <a:off x="64623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32017-3B4A-4749-8640-93D96E5E1E34}" type="slidenum"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52" descr="13"/>
          <p:cNvPicPr/>
          <p:nvPr/>
        </p:nvPicPr>
        <p:blipFill>
          <a:blip r:embed="rId2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3" descr="15"/>
          <p:cNvPicPr/>
          <p:nvPr/>
        </p:nvPicPr>
        <p:blipFill>
          <a:blip r:embed="rId3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7" descr="logo(trasparance)2"/>
          <p:cNvPicPr/>
          <p:nvPr/>
        </p:nvPicPr>
        <p:blipFill>
          <a:blip r:embed="rId4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8" descr="15"/>
          <p:cNvPicPr/>
          <p:nvPr/>
        </p:nvPicPr>
        <p:blipFill>
          <a:blip r:embed="rId5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5"/>
          </p:nvPr>
        </p:nvSpPr>
        <p:spPr>
          <a:xfrm>
            <a:off x="64623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C4C7F-5C83-45F3-9774-C85CE982ACE5}" type="slidenum"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5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6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283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18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7C0CA-DEEB-49DC-B7CC-BB559EC9B171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2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3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356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3556C-0C75-40E7-A761-57F9F7190F23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429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24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691EE-0252-4A9B-9260-76DE6EACADA2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7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8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5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7C0D1-6DBB-4DC6-B606-D929BB18C774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consultantplus://offline/ref=9281BDD39C87F3218B3AC503DFA8BEE3F12588B15DA6DF4A48D4F33551DF220D1F6398B8705A1704777545928C10681BB1A4257893729504hAm4H" TargetMode="External"/><Relationship Id="rId2" Type="http://schemas.openxmlformats.org/officeDocument/2006/relationships/slideLayout" Target="../slideLayouts/slideLayout27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consultantplus://offline/ref=E3B3CEBC88A1CC4C56F4AEF0A7CB4BB9016FAC6FF5594FF85EB6967FA2709A6E8BEB69EA3ACA394AF1F229E78DEBF360B738DFBA5E4272B87DX9E" TargetMode="External"/><Relationship Id="rId2" Type="http://schemas.openxmlformats.org/officeDocument/2006/relationships/hyperlink" Target="consultantplus://offline/ref=E3B3CEBC88A1CC4C56F4AEF0A7CB4BB90066A26BF1574FF85EB6967FA2709A6E8BEB69EE319E680CA6F47FB5D7BFFF7CB626DF7BX2E" TargetMode="External"/><Relationship Id="rId3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e.zdravohrana.ru/npd-doc.aspx?npmid=99&amp;npid=901807664&amp;anchor=XA00MCC2NT#XA00MCC2NT" TargetMode="External"/><Relationship Id="rId2" Type="http://schemas.openxmlformats.org/officeDocument/2006/relationships/slideLayout" Target="../slideLayouts/slideLayout25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Text Box 179"/>
          <p:cNvSpPr/>
          <p:nvPr/>
        </p:nvSpPr>
        <p:spPr>
          <a:xfrm>
            <a:off x="309600" y="1874880"/>
            <a:ext cx="8655120" cy="19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62626"/>
                </a:solidFill>
                <a:latin typeface="Arial"/>
              </a:rPr>
              <a:t>Форма №</a:t>
            </a:r>
            <a:r>
              <a:rPr b="1" lang="en-US" sz="4400" spc="-1" strike="noStrike">
                <a:solidFill>
                  <a:srgbClr val="262626"/>
                </a:solidFill>
                <a:latin typeface="Arial"/>
              </a:rPr>
              <a:t>30</a:t>
            </a:r>
            <a:br>
              <a:rPr sz="4400"/>
            </a:br>
            <a:r>
              <a:rPr b="1" lang="ru-RU" sz="4400" spc="-1" strike="noStrike">
                <a:solidFill>
                  <a:srgbClr val="262626"/>
                </a:solidFill>
                <a:latin typeface="Arial"/>
              </a:rPr>
              <a:t>«Сведения о медицинской организации»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Подзаголовок 2"/>
          <p:cNvSpPr/>
          <p:nvPr/>
        </p:nvSpPr>
        <p:spPr>
          <a:xfrm>
            <a:off x="2496960" y="4351320"/>
            <a:ext cx="6312240" cy="16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66f54"/>
                </a:solidFill>
                <a:latin typeface="Times New Roman"/>
              </a:rPr>
              <a:t>РАЗДЕЛ II.  ШТАТЫ  МЕДИЦИНСКОЙ  ОРГАНИЗАЦИИ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Line 3"/>
          <p:cNvSpPr/>
          <p:nvPr/>
        </p:nvSpPr>
        <p:spPr>
          <a:xfrm>
            <a:off x="393372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1" name=""/>
          <p:cNvGraphicFramePr/>
          <p:nvPr/>
        </p:nvGraphicFramePr>
        <p:xfrm>
          <a:off x="324000" y="1327320"/>
          <a:ext cx="8450280" cy="4530600"/>
        </p:xfrm>
        <a:graphic>
          <a:graphicData uri="http://schemas.openxmlformats.org/drawingml/2006/table">
            <a:tbl>
              <a:tblPr/>
              <a:tblGrid>
                <a:gridCol w="2682720"/>
                <a:gridCol w="527040"/>
                <a:gridCol w="731880"/>
                <a:gridCol w="709560"/>
                <a:gridCol w="789120"/>
                <a:gridCol w="1001520"/>
                <a:gridCol w="1085760"/>
                <a:gridCol w="922680"/>
              </a:tblGrid>
              <a:tr h="73116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меют квалификационную категорию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сертификат специалиста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меют свидетельство об аккредитации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аходятся в декретном и долгосрочном отпуске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179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4640">
                <a:tc gridSpan="8"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графы 12-14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заполняются на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ки из распорядительного акта органа государственной власти или организации, создавших аттестационную комиссию, о присвоении специалистам, прошедшим аттестацию, квалификационных категор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м и фармацевтическим работникам. Имеющие категории по нескольким специальностям, показываются в отчете 1 раз – по основной должност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графа 15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заполняется на основании сертификатов специалиста. Медицинские и фармацевтические работники, имеющие сертификаты по нескольким специальностям, показываются в отчете 1 раз – по основной должност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72" name="Rectangle 2"/>
          <p:cNvSpPr/>
          <p:nvPr/>
        </p:nvSpPr>
        <p:spPr>
          <a:xfrm>
            <a:off x="1257480" y="162000"/>
            <a:ext cx="5371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marL="670320" indent="-6703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а 1100. Должности и физические лица медицинской организа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Line 3"/>
          <p:cNvSpPr/>
          <p:nvPr/>
        </p:nvSpPr>
        <p:spPr>
          <a:xfrm>
            <a:off x="393372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4" name=""/>
          <p:cNvGraphicFramePr/>
          <p:nvPr/>
        </p:nvGraphicFramePr>
        <p:xfrm>
          <a:off x="374760" y="801720"/>
          <a:ext cx="8450280" cy="3273480"/>
        </p:xfrm>
        <a:graphic>
          <a:graphicData uri="http://schemas.openxmlformats.org/drawingml/2006/table">
            <a:tbl>
              <a:tblPr/>
              <a:tblGrid>
                <a:gridCol w="2682720"/>
                <a:gridCol w="527040"/>
                <a:gridCol w="731880"/>
                <a:gridCol w="709560"/>
                <a:gridCol w="789120"/>
                <a:gridCol w="1001520"/>
                <a:gridCol w="1086120"/>
                <a:gridCol w="922320"/>
              </a:tblGrid>
              <a:tr h="73116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квалификационную категорию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сертификат специалиста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меют свидетельство об аккредитации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аходятся в декретном и долгосрочном отпуске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179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 gridSpan="6"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Графа 16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олняется на основании </a:t>
                      </a:r>
                      <a:r>
                        <a:rPr b="1" lang="ru-RU" sz="1600" spc="-1" strike="noStrike">
                          <a:solidFill>
                            <a:srgbClr val="766f54"/>
                          </a:solidFill>
                          <a:latin typeface="Arial"/>
                        </a:rPr>
                        <a:t>свидетельства об аккредитации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 Графе 17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зываются физические лица основных работников (из графы 9), находящихся в декретном и долгосрочном отпуске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3010"/>
                    </a:solidFill>
                  </a:tcPr>
                </a:tc>
              </a:tr>
            </a:tbl>
          </a:graphicData>
        </a:graphic>
      </p:graphicFrame>
      <p:sp>
        <p:nvSpPr>
          <p:cNvPr id="1675" name="Rectangle 538"/>
          <p:cNvSpPr/>
          <p:nvPr/>
        </p:nvSpPr>
        <p:spPr>
          <a:xfrm>
            <a:off x="258840" y="5651640"/>
            <a:ext cx="849924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ac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Text Box 541"/>
          <p:cNvSpPr/>
          <p:nvPr/>
        </p:nvSpPr>
        <p:spPr>
          <a:xfrm>
            <a:off x="7093080" y="3378240"/>
            <a:ext cx="14713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  <a:ea typeface="Arial"/>
              </a:rPr>
              <a:t>Внимание!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Rectangle 2"/>
          <p:cNvSpPr/>
          <p:nvPr/>
        </p:nvSpPr>
        <p:spPr>
          <a:xfrm>
            <a:off x="1257480" y="162000"/>
            <a:ext cx="5371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marL="670320" indent="-6703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а 1100. Должности и физические лица медицинской организа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8" name="Group 3"/>
          <p:cNvGrpSpPr/>
          <p:nvPr/>
        </p:nvGrpSpPr>
        <p:grpSpPr>
          <a:xfrm>
            <a:off x="257040" y="4149720"/>
            <a:ext cx="8429400" cy="2512440"/>
            <a:chOff x="257040" y="4149720"/>
            <a:chExt cx="8429400" cy="2512440"/>
          </a:xfrm>
        </p:grpSpPr>
        <p:grpSp>
          <p:nvGrpSpPr>
            <p:cNvPr id="1679" name="Group 4"/>
            <p:cNvGrpSpPr/>
            <p:nvPr/>
          </p:nvGrpSpPr>
          <p:grpSpPr>
            <a:xfrm>
              <a:off x="257040" y="4149720"/>
              <a:ext cx="8429400" cy="2512440"/>
              <a:chOff x="257040" y="4149720"/>
              <a:chExt cx="8429400" cy="2512440"/>
            </a:xfrm>
          </p:grpSpPr>
          <p:grpSp>
            <p:nvGrpSpPr>
              <p:cNvPr id="1680" name="Group 5"/>
              <p:cNvGrpSpPr/>
              <p:nvPr/>
            </p:nvGrpSpPr>
            <p:grpSpPr>
              <a:xfrm>
                <a:off x="257040" y="4149720"/>
                <a:ext cx="8392320" cy="2512440"/>
                <a:chOff x="257040" y="4149720"/>
                <a:chExt cx="8392320" cy="2512440"/>
              </a:xfrm>
            </p:grpSpPr>
            <p:sp>
              <p:nvSpPr>
                <p:cNvPr id="1681" name="AutoShape 7"/>
                <p:cNvSpPr/>
                <p:nvPr/>
              </p:nvSpPr>
              <p:spPr>
                <a:xfrm>
                  <a:off x="622800" y="4149720"/>
                  <a:ext cx="7974720" cy="1055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5499a1"/>
                    </a:gs>
                    <a:gs pos="50000">
                      <a:srgbClr val="13737d"/>
                    </a:gs>
                    <a:gs pos="100000">
                      <a:srgbClr val="5499a1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2" name="AutoShape 8"/>
                <p:cNvSpPr/>
                <p:nvPr/>
              </p:nvSpPr>
              <p:spPr>
                <a:xfrm>
                  <a:off x="257040" y="4149720"/>
                  <a:ext cx="8392320" cy="25124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3cfcd"/>
                    </a:gs>
                    <a:gs pos="50000">
                      <a:srgbClr val="b2e1e0"/>
                    </a:gs>
                    <a:gs pos="100000">
                      <a:srgbClr val="83cfcd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3" name="Line 9"/>
              <p:cNvSpPr/>
              <p:nvPr/>
            </p:nvSpPr>
            <p:spPr>
              <a:xfrm>
                <a:off x="572040" y="4736520"/>
                <a:ext cx="676440" cy="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i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Line 10"/>
              <p:cNvSpPr/>
              <p:nvPr/>
            </p:nvSpPr>
            <p:spPr>
              <a:xfrm>
                <a:off x="8010360" y="4736520"/>
                <a:ext cx="676080" cy="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i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5" name="Rectangle 11"/>
            <p:cNvSpPr/>
            <p:nvPr/>
          </p:nvSpPr>
          <p:spPr>
            <a:xfrm>
              <a:off x="1277280" y="4181040"/>
              <a:ext cx="6670440" cy="23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3300"/>
                  </a:solidFill>
                  <a:latin typeface="Arial"/>
                </a:rPr>
                <a:t>Контроль </a:t>
              </a:r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Графа 15 + Графа 16 </a:t>
              </a:r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не может быть больше Графы 9 по всем строкам.</a:t>
              </a:r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c3300"/>
                  </a:solidFill>
                  <a:latin typeface="Arial"/>
                </a:rPr>
                <a:t>В случае если графа 15+16 не равна графе 9 </a:t>
              </a:r>
              <a:r>
                <a:rPr b="1" lang="ru-RU" sz="2000" spc="-1" strike="noStrike" u="sng">
                  <a:solidFill>
                    <a:srgbClr val="cc3300"/>
                  </a:solidFill>
                  <a:uFillTx/>
                  <a:latin typeface="Arial"/>
                </a:rPr>
                <a:t>представить пояснительную записку.</a:t>
              </a:r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c3300"/>
                  </a:solidFill>
                  <a:latin typeface="Arial"/>
                </a:rPr>
                <a:t>При отсутствии/окончании срока действия сертификата – специалист не имеет права заниматься медицинской деятельностью.</a:t>
              </a:r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"/>
          <p:cNvSpPr txBox="1"/>
          <p:nvPr/>
        </p:nvSpPr>
        <p:spPr>
          <a:xfrm>
            <a:off x="523800" y="1227240"/>
            <a:ext cx="8399520" cy="4525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МИНИСТЕРСТВО ЗДРАВООХРАНЕНИЯ РОССИЙСКОЙ ФЕДЕРАЦИИ ПРИКАЗ от 22 декабря 2017 г. N 1043н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766f54"/>
                </a:solidFill>
                <a:latin typeface="Century Gothic"/>
              </a:rPr>
              <a:t>ОБ УТВЕРЖДЕНИИ СРОКОВ И ЭТАПОВ АККРЕДИТАЦИИ СПЕЦИАЛИСТОВ, А ТАКЖЕ КАТЕГОРИЙ ЛИЦ, ИМЕЮЩИХ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766f54"/>
                </a:solidFill>
                <a:latin typeface="Century Gothic"/>
              </a:rPr>
              <a:t>МЕДИЦИНСКОЕ, ФАРМАЦЕВТИЧЕСКОЕ ИЛИ ИНОЕ ОБРАЗОВАНИЕ И ПОДЛЕЖАЩИХ АККРЕДИТАЦИИ СПЕЦИАЛИСТОВ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7" name=""/>
          <p:cNvGraphicFramePr/>
          <p:nvPr/>
        </p:nvGraphicFramePr>
        <p:xfrm>
          <a:off x="357120" y="1125360"/>
          <a:ext cx="8339040" cy="5151600"/>
        </p:xfrm>
        <a:graphic>
          <a:graphicData uri="http://schemas.openxmlformats.org/drawingml/2006/table">
            <a:tbl>
              <a:tblPr/>
              <a:tblGrid>
                <a:gridCol w="938160"/>
                <a:gridCol w="7400880"/>
              </a:tblGrid>
              <a:tr h="2525400">
                <a:tc rowSpan="2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1 января 2019 года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, получившие после 1 января 2019 года высшее образование по основным образовательным программам в соответствии с федеральными государственными образовательными стандартами в области образования "Здравоохранение и медицинские науки" </a:t>
                      </a:r>
                      <a:r>
                        <a:rPr b="1" i="1" lang="ru-RU" sz="1600" spc="-1" strike="noStrike">
                          <a:solidFill>
                            <a:srgbClr val="766f54"/>
                          </a:solidFill>
                          <a:latin typeface="Times New Roman"/>
                          <a:ea typeface="Times New Roman"/>
                        </a:rPr>
                        <a:t>(уровень ординатуры),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требования к результатам освоения основных образовательных программ профессионального образования в части профессиональной компетенции которых сформированы на основе соответствующих профессиональных стандартов (при наличии) &lt;2&gt; </a:t>
                      </a:r>
                      <a:r>
                        <a:rPr b="1" i="1" lang="ru-RU" sz="1600" spc="-1" strike="noStrike">
                          <a:solidFill>
                            <a:srgbClr val="766f54"/>
                          </a:solidFill>
                          <a:latin typeface="Times New Roman"/>
                          <a:ea typeface="Times New Roman"/>
                        </a:rPr>
                        <a:t>по специальностям: "Неврология", "Кардиология", "Общая врачебная практика (семейная медицина)", "Онкология", "Педиатрия", "Терапия"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, получившие после 1 января 2019 года дополнительное профессиональное образование по программам профессиональной переподготовки, разработанным на основании установленных квалификационных требований, профессиональных стандартов и требований соответствующих федеральных государственных образовательных стандартов высшего образования </a:t>
                      </a:r>
                      <a:r>
                        <a:rPr b="1" i="1" lang="ru-RU" sz="1600" spc="-1" strike="noStrike">
                          <a:solidFill>
                            <a:srgbClr val="766f54"/>
                          </a:solidFill>
                          <a:latin typeface="Times New Roman"/>
                          <a:ea typeface="Times New Roman"/>
                        </a:rPr>
                        <a:t>(уровень ординатуры)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 результатам освоения образовательных программ &lt;3&gt; </a:t>
                      </a:r>
                      <a:r>
                        <a:rPr b="1" i="1" lang="ru-RU" sz="1600" spc="-1" strike="noStrike">
                          <a:solidFill>
                            <a:srgbClr val="766f54"/>
                          </a:solidFill>
                          <a:latin typeface="Times New Roman"/>
                          <a:ea typeface="Times New Roman"/>
                        </a:rPr>
                        <a:t>по специальностям: "Неврология", "Кардиология", "Общая врачебная практика (семейная медицина)", "Онкология", "Педиатрия", "Терапия"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 gridSpan="2"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в ред. </a:t>
                      </a:r>
                      <a:r>
                        <a:rPr b="1" i="1" lang="ru-RU" sz="1600" spc="-1" strike="noStrike" u="sng">
                          <a:solidFill>
                            <a:srgbClr val="fb4a18"/>
                          </a:solidFill>
                          <a:uFillTx/>
                          <a:latin typeface="Times New Roman"/>
                          <a:ea typeface="Times New Roman"/>
                          <a:hlinkClick r:id="rId1"/>
                        </a:rPr>
                        <a:t>Приказа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Минздрава России от 21.12.2018 N 898н)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"/>
          <p:cNvSpPr txBox="1"/>
          <p:nvPr/>
        </p:nvSpPr>
        <p:spPr>
          <a:xfrm>
            <a:off x="396360" y="355680"/>
            <a:ext cx="8450280" cy="62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</a:rPr>
              <a:t>Минздрав пересмотрел категории выпускников-медиков, подлежащих аккредитации с 2019 и 2020 годов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Times New Roman"/>
              </a:rPr>
              <a:t>Медорганизации не должны принимать на работу без свидетельства об аккредитации тех, кто в 2019 году или позже завершит обучение в ординатуре в рамках высшего или дополнительного образования по следующим специальностям: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404040"/>
                </a:solidFill>
                <a:latin typeface="Times New Roman"/>
              </a:rPr>
              <a:t>- неврология;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404040"/>
                </a:solidFill>
                <a:latin typeface="Times New Roman"/>
              </a:rPr>
              <a:t>- кардиология;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404040"/>
                </a:solidFill>
                <a:latin typeface="Times New Roman"/>
              </a:rPr>
              <a:t>- общая врачебная практика (семейная медицина);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404040"/>
                </a:solidFill>
                <a:latin typeface="Times New Roman"/>
              </a:rPr>
              <a:t>- онкология;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404040"/>
                </a:solidFill>
                <a:latin typeface="Times New Roman"/>
              </a:rPr>
              <a:t>- педиатрия;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404040"/>
                </a:solidFill>
                <a:latin typeface="Times New Roman"/>
              </a:rPr>
              <a:t>терапия. 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 u="sng">
                <a:solidFill>
                  <a:srgbClr val="fb4a18"/>
                </a:solidFill>
                <a:uFillTx/>
                <a:latin typeface="Times New Roman"/>
                <a:hlinkClick r:id="rId1"/>
              </a:rPr>
              <a:t>По ранее действовавшим правилам</a:t>
            </a:r>
            <a:r>
              <a:rPr b="0" lang="ru-RU" sz="1900" spc="-1" strike="noStrike">
                <a:solidFill>
                  <a:srgbClr val="404040"/>
                </a:solidFill>
                <a:latin typeface="Times New Roman"/>
              </a:rPr>
              <a:t> аккредитации с 2019 года подлежали и те, кто получит допобразование по программам профпереподготовки, основанным на квалификационных требованиях, профстандартах и ФГОС среднего профессионального и (или) высшего образования. Теперь </a:t>
            </a:r>
            <a:r>
              <a:rPr b="0" lang="ru-RU" sz="1900" spc="-1" strike="noStrike" u="sng">
                <a:solidFill>
                  <a:srgbClr val="fb4a18"/>
                </a:solidFill>
                <a:uFillTx/>
                <a:latin typeface="Times New Roman"/>
                <a:hlinkClick r:id="rId2"/>
              </a:rPr>
              <a:t>эта группа выпускников</a:t>
            </a:r>
            <a:r>
              <a:rPr b="0" lang="ru-RU" sz="1900" spc="-1" strike="noStrike">
                <a:solidFill>
                  <a:srgbClr val="404040"/>
                </a:solidFill>
                <a:latin typeface="Times New Roman"/>
              </a:rPr>
              <a:t> должна получать свидетельства об аккредитации только с 2020 года.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Times New Roman"/>
              </a:rPr>
              <a:t>С 2020 года аккредитацию предстоит пройти и тем, кто после 1 января 2020 года получит высшее образование по основным образовательным программам "Здравоохранение и медицинские науки" (уровень бакалавриата, магистратуры, ординатуры).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900" spc="-1" strike="noStrike">
                <a:solidFill>
                  <a:srgbClr val="404040"/>
                </a:solidFill>
                <a:latin typeface="Times New Roman"/>
              </a:rPr>
              <a:t>Документ: Приказ Минздрава России от 21.12.2018 N 898н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929880" y="38412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Century Gothic"/>
              </a:rPr>
              <a:t>МИНИСТЕРСТВО ЗДРАВООХРАНЕНИЯ РОССИЙСКОЙ ФЕДЕРАЦИИ ПИСЬМО от 8 августа 2019 г. N 16-7/И/2-7280 </a:t>
            </a:r>
            <a:endParaRPr b="0" lang="en-US" sz="2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492120" y="140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imes New Roman"/>
              </a:rPr>
              <a:t>Вместе с тем Положением наряду с выдачей свидетельства об аккредитации специалиста также предусмотрен еще один механизм подтверждения факта успешного прохождения процедуры аккредитации специалиста - выдача в течение трех дней </a:t>
            </a:r>
            <a:r>
              <a:rPr b="1" lang="ru-RU" sz="1500" spc="-1" strike="noStrike">
                <a:solidFill>
                  <a:srgbClr val="404040"/>
                </a:solidFill>
                <a:latin typeface="Times New Roman"/>
              </a:rPr>
              <a:t>выписки из итогового протокола</a:t>
            </a:r>
            <a:r>
              <a:rPr b="0" lang="ru-RU" sz="1500" spc="-1" strike="noStrike">
                <a:solidFill>
                  <a:srgbClr val="404040"/>
                </a:solidFill>
                <a:latin typeface="Times New Roman"/>
              </a:rPr>
              <a:t>, содержащей соответствующее решение (пункт 52 Положения).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imes New Roman"/>
              </a:rPr>
              <a:t>В связи с изложенным в настоящее время в медицинских и фармацевтических организациях, независимо от их формы собственности и ведомственной принадлежности, могут осуществлять медицинскую или фармацевтическую деятельность лица, успешно прошедшие в 2019 году процедуру первичной и первичной специализированной аккредитации специалистов, </a:t>
            </a:r>
            <a:r>
              <a:rPr b="1" lang="ru-RU" sz="1500" spc="-1" strike="noStrike">
                <a:solidFill>
                  <a:srgbClr val="404040"/>
                </a:solidFill>
                <a:latin typeface="Times New Roman"/>
              </a:rPr>
              <a:t>имеющие выписку из итогового протокола и не имеющие до настоящего времени на руках свидетельства об аккредитации специалиста.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imes New Roman"/>
              </a:rPr>
              <a:t>Одновременно с этим, учитывая, что в соответствии с пунктом 53 Положения сведения о лицах, признанных прошедшими аккредитацию специалиста, вносятся в Федеральный регистр медицинских работников (далее - ФРМР), ведение которого предусмотрено приказом Минздрава России от 31.12.2013 N 1159н, осуществление проверки факта успешного прохождения процедуры аккредитации специалистом может осуществляться </a:t>
            </a:r>
            <a:r>
              <a:rPr b="1" lang="ru-RU" sz="1500" spc="-1" strike="noStrike">
                <a:solidFill>
                  <a:srgbClr val="404040"/>
                </a:solidFill>
                <a:latin typeface="Times New Roman"/>
              </a:rPr>
              <a:t>путем получения соответствующей информации из ФРМР</a:t>
            </a:r>
            <a:r>
              <a:rPr b="0" lang="ru-RU" sz="1500" spc="-1" strike="noStrike">
                <a:solidFill>
                  <a:srgbClr val="404040"/>
                </a:solidFill>
                <a:latin typeface="Times New Roman"/>
              </a:rPr>
              <a:t> в процессе формирования личного дела при трудоустройстве указанного лица в медицинскую организацию.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imes New Roman"/>
              </a:rPr>
              <a:t>Дополнительно сообщаем, что факт успешного прохождения лицом аккредитации специалиста также может быть проверен на официальном сайте образовательной и (или) научной организаций в информационно-телекоммуникационной сети "Интернет", на базе которой проводилась аккредитация специалиста, путем сверки данных в выписке с данными в итоговом протоколе.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755280" y="290520"/>
            <a:ext cx="759636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Формирование списка сотрудников, имеющих удостоверение об аккредитации</a:t>
            </a:r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692" name="Объект 3" descr=""/>
          <p:cNvPicPr/>
          <p:nvPr/>
        </p:nvPicPr>
        <p:blipFill>
          <a:blip r:embed="rId1"/>
          <a:stretch/>
        </p:blipFill>
        <p:spPr>
          <a:xfrm>
            <a:off x="792000" y="1484280"/>
            <a:ext cx="8352000" cy="50403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693" name="Прямоугольная выноска 2"/>
          <p:cNvSpPr/>
          <p:nvPr/>
        </p:nvSpPr>
        <p:spPr>
          <a:xfrm>
            <a:off x="684360" y="5516640"/>
            <a:ext cx="1800000" cy="57636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ccc7b7"/>
          </a:solidFill>
          <a:ln cap="rnd" w="15840">
            <a:solidFill>
              <a:srgbClr val="782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Диапазон дат -  с 2016 года по  настоящее время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Прямая соединительная линия 5"/>
          <p:cNvSpPr/>
          <p:nvPr/>
        </p:nvSpPr>
        <p:spPr>
          <a:xfrm>
            <a:off x="755640" y="6381720"/>
            <a:ext cx="1368360" cy="0"/>
          </a:xfrm>
          <a:prstGeom prst="line">
            <a:avLst/>
          </a:prstGeom>
          <a:ln cap="rnd"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TextBox 7"/>
          <p:cNvSpPr/>
          <p:nvPr/>
        </p:nvSpPr>
        <p:spPr>
          <a:xfrm>
            <a:off x="5940360" y="1665360"/>
            <a:ext cx="2808360" cy="1585800"/>
          </a:xfrm>
          <a:prstGeom prst="rect">
            <a:avLst/>
          </a:prstGeom>
          <a:solidFill>
            <a:srgbClr val="ee6e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Ввести дату проведения аккредитации в диапазоне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Статус работника –работающие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Тип занятия должности – основная должность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Поиск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TextBox 8"/>
          <p:cNvSpPr/>
          <p:nvPr/>
        </p:nvSpPr>
        <p:spPr>
          <a:xfrm>
            <a:off x="2916360" y="61531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  <a:ea typeface="Arial"/>
              </a:rPr>
              <a:t>1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Стрелка вправо 9"/>
          <p:cNvSpPr/>
          <p:nvPr/>
        </p:nvSpPr>
        <p:spPr>
          <a:xfrm>
            <a:off x="6164280" y="4105440"/>
            <a:ext cx="360360" cy="72720"/>
          </a:xfrm>
          <a:prstGeom prst="rightArrow">
            <a:avLst>
              <a:gd name="adj1" fmla="val 50000"/>
              <a:gd name="adj2" fmla="val 50220"/>
            </a:avLst>
          </a:prstGeom>
          <a:solidFill>
            <a:srgbClr val="ff0000"/>
          </a:solidFill>
          <a:ln cap="rnd"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Стрелка вправо 10"/>
          <p:cNvSpPr/>
          <p:nvPr/>
        </p:nvSpPr>
        <p:spPr>
          <a:xfrm>
            <a:off x="6164280" y="4302000"/>
            <a:ext cx="360360" cy="71640"/>
          </a:xfrm>
          <a:prstGeom prst="rightArrow">
            <a:avLst>
              <a:gd name="adj1" fmla="val 50000"/>
              <a:gd name="adj2" fmla="val 49859"/>
            </a:avLst>
          </a:prstGeom>
          <a:solidFill>
            <a:srgbClr val="ff0000"/>
          </a:solidFill>
          <a:ln cap="rnd"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Прямая соединительная линия 12"/>
          <p:cNvSpPr/>
          <p:nvPr/>
        </p:nvSpPr>
        <p:spPr>
          <a:xfrm>
            <a:off x="4788000" y="4302000"/>
            <a:ext cx="792000" cy="0"/>
          </a:xfrm>
          <a:prstGeom prst="line">
            <a:avLst/>
          </a:prstGeom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0" name="Рисунок 13" descr=""/>
          <p:cNvPicPr/>
          <p:nvPr/>
        </p:nvPicPr>
        <p:blipFill>
          <a:blip r:embed="rId2"/>
          <a:stretch/>
        </p:blipFill>
        <p:spPr>
          <a:xfrm>
            <a:off x="4788000" y="4437000"/>
            <a:ext cx="811080" cy="30240"/>
          </a:xfrm>
          <a:prstGeom prst="rect">
            <a:avLst/>
          </a:prstGeom>
          <a:ln w="0">
            <a:noFill/>
          </a:ln>
        </p:spPr>
      </p:pic>
      <p:sp>
        <p:nvSpPr>
          <p:cNvPr id="1701" name="TextBox 14"/>
          <p:cNvSpPr/>
          <p:nvPr/>
        </p:nvSpPr>
        <p:spPr>
          <a:xfrm>
            <a:off x="5884920" y="3943440"/>
            <a:ext cx="14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  <a:ea typeface="Arial"/>
              </a:rPr>
              <a:t>2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TextBox 15"/>
          <p:cNvSpPr/>
          <p:nvPr/>
        </p:nvSpPr>
        <p:spPr>
          <a:xfrm>
            <a:off x="5877000" y="4189320"/>
            <a:ext cx="3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  <a:ea typeface="Arial"/>
              </a:rPr>
              <a:t>3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3" name=""/>
          <p:cNvGraphicFramePr/>
          <p:nvPr/>
        </p:nvGraphicFramePr>
        <p:xfrm>
          <a:off x="517680" y="1143000"/>
          <a:ext cx="8173800" cy="3657600"/>
        </p:xfrm>
        <a:graphic>
          <a:graphicData uri="http://schemas.openxmlformats.org/drawingml/2006/table">
            <a:tbl>
              <a:tblPr/>
              <a:tblGrid>
                <a:gridCol w="1350720"/>
                <a:gridCol w="496800"/>
                <a:gridCol w="568440"/>
                <a:gridCol w="641520"/>
                <a:gridCol w="637920"/>
                <a:gridCol w="569880"/>
                <a:gridCol w="638280"/>
                <a:gridCol w="568440"/>
                <a:gridCol w="995400"/>
                <a:gridCol w="853920"/>
                <a:gridCol w="852480"/>
              </a:tblGrid>
              <a:tr h="115740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9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2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766f54"/>
                          </a:solidFill>
                          <a:latin typeface="Arial"/>
                          <a:ea typeface="Arial"/>
                        </a:rPr>
                        <a:t>Лаборанты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(из стр.1 Врачи – всего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4" name="Rectangle 108"/>
          <p:cNvSpPr/>
          <p:nvPr/>
        </p:nvSpPr>
        <p:spPr>
          <a:xfrm>
            <a:off x="434880" y="4911840"/>
            <a:ext cx="841860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 соответствии с ранее действовавшими приказами Минздрава СССР от 21.10.1974  №990 и от 13.07.1989 №418 лица, получившие высшее профессиональное (немедицинкое) образование, могли замещать в учреждениях здравоохранения должности </a:t>
            </a:r>
            <a:r>
              <a:rPr b="1" lang="ru-RU" sz="1800" spc="-1" strike="noStrike">
                <a:solidFill>
                  <a:srgbClr val="766f54"/>
                </a:solidFill>
                <a:latin typeface="Times New Roman"/>
                <a:ea typeface="Arial"/>
              </a:rPr>
              <a:t>врачей-лаборантов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казом Минздрава России от 25.12.1997 №380 к замещению должности </a:t>
            </a:r>
            <a:r>
              <a:rPr b="1" lang="ru-RU" sz="1800" spc="-1" strike="noStrike">
                <a:solidFill>
                  <a:srgbClr val="766f54"/>
                </a:solidFill>
                <a:latin typeface="Times New Roman"/>
                <a:ea typeface="Arial"/>
              </a:rPr>
              <a:t>врача клинической лабораторной диагностик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были допущены лица с высшим медицинским образованием и сертификатом по специальности «Клиническая лабораторная диагностика»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Rectangle 2"/>
          <p:cNvSpPr/>
          <p:nvPr/>
        </p:nvSpPr>
        <p:spPr>
          <a:xfrm>
            <a:off x="1600200" y="457200"/>
            <a:ext cx="5938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marL="670320" indent="-6703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а 1100. Должности и физические лица медицинской организа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6" name=""/>
          <p:cNvGraphicFramePr/>
          <p:nvPr/>
        </p:nvGraphicFramePr>
        <p:xfrm>
          <a:off x="517680" y="1143000"/>
          <a:ext cx="8173800" cy="3657600"/>
        </p:xfrm>
        <a:graphic>
          <a:graphicData uri="http://schemas.openxmlformats.org/drawingml/2006/table">
            <a:tbl>
              <a:tblPr/>
              <a:tblGrid>
                <a:gridCol w="1350720"/>
                <a:gridCol w="496800"/>
                <a:gridCol w="568440"/>
                <a:gridCol w="641520"/>
                <a:gridCol w="637920"/>
                <a:gridCol w="569880"/>
                <a:gridCol w="638280"/>
                <a:gridCol w="568440"/>
                <a:gridCol w="995400"/>
                <a:gridCol w="853920"/>
                <a:gridCol w="852480"/>
              </a:tblGrid>
              <a:tr h="115740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9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2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766f54"/>
                          </a:solidFill>
                          <a:latin typeface="Arial"/>
                          <a:ea typeface="Arial"/>
                        </a:rPr>
                        <a:t>Лаборанты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(из стр.1 Врачи – всего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7" name="Rectangle 108"/>
          <p:cNvSpPr/>
          <p:nvPr/>
        </p:nvSpPr>
        <p:spPr>
          <a:xfrm>
            <a:off x="434880" y="4911840"/>
            <a:ext cx="841860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Руководителю медицинской организации было предоставлено ввести должность «Биолог»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.о. должность «</a:t>
            </a:r>
            <a:r>
              <a:rPr b="1" lang="ru-RU" sz="1800" spc="-1" strike="noStrike">
                <a:solidFill>
                  <a:srgbClr val="766f54"/>
                </a:solidFill>
                <a:latin typeface="Times New Roman"/>
                <a:ea typeface="Arial"/>
              </a:rPr>
              <a:t>врач-лаборан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» сохраняется для специалистов с высшим профессиональным (немедицинским) образованием, принятых на работу до 01.10.1999 года. Эти работники могут продолжать профессиональную деятельность в занимаемых должностях без сертификата специалиста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Rectangle 2"/>
          <p:cNvSpPr/>
          <p:nvPr/>
        </p:nvSpPr>
        <p:spPr>
          <a:xfrm>
            <a:off x="1600200" y="457200"/>
            <a:ext cx="5938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marL="670320" indent="-6703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а 1100. Должности и физические лица медицинской организа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9" name=""/>
          <p:cNvGraphicFramePr/>
          <p:nvPr/>
        </p:nvGraphicFramePr>
        <p:xfrm>
          <a:off x="517680" y="1143000"/>
          <a:ext cx="8173800" cy="3292560"/>
        </p:xfrm>
        <a:graphic>
          <a:graphicData uri="http://schemas.openxmlformats.org/drawingml/2006/table">
            <a:tbl>
              <a:tblPr/>
              <a:tblGrid>
                <a:gridCol w="1350720"/>
                <a:gridCol w="496800"/>
                <a:gridCol w="568440"/>
                <a:gridCol w="641520"/>
                <a:gridCol w="637920"/>
                <a:gridCol w="569880"/>
                <a:gridCol w="638280"/>
                <a:gridCol w="568440"/>
                <a:gridCol w="995400"/>
                <a:gridCol w="853920"/>
                <a:gridCol w="852480"/>
              </a:tblGrid>
              <a:tr h="115740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9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риемного отделения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7b7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7b7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0" name="Rectangle 108"/>
          <p:cNvSpPr/>
          <p:nvPr/>
        </p:nvSpPr>
        <p:spPr>
          <a:xfrm>
            <a:off x="577800" y="4587840"/>
            <a:ext cx="808200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оказываем все должности врачей приемного отделения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Times New Roman"/>
                <a:ea typeface="Arial"/>
              </a:rPr>
              <a:t>Обратить внимание!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Показываем должности «врач приемного отделения», независимо от специальност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Rectangle 2"/>
          <p:cNvSpPr/>
          <p:nvPr/>
        </p:nvSpPr>
        <p:spPr>
          <a:xfrm>
            <a:off x="1600200" y="457200"/>
            <a:ext cx="5938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marL="670320" indent="-6703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а 1100. Должности и физические лица медицинской организа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Text Box 3"/>
          <p:cNvSpPr/>
          <p:nvPr/>
        </p:nvSpPr>
        <p:spPr>
          <a:xfrm>
            <a:off x="328680" y="1316160"/>
            <a:ext cx="8424720" cy="45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Штатное расписание является документом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торым определяется структура учреждения и численность должностей по каждому наименованию в конкретных подразделениях и в целом по учреждению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медицинском учреждении штатное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расписание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оставляется отдельно по бюджетным подразделениям, ОМС и оказывающим платные медицинские услуги.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а штатного расписания утверждена Постановлением Госкомстата РФ от 05.01.2004 №1 «Об утверждении унифицированных форм первичной учетной документации по учету труда и его оплаты». Данная форма 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N Т-3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рекомендована для применения организациями независимо от формы собственности, осуществляющими деятельность на территории РФ, в том числе бюджетными учреждениями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Подзаголовок 2"/>
          <p:cNvSpPr/>
          <p:nvPr/>
        </p:nvSpPr>
        <p:spPr>
          <a:xfrm>
            <a:off x="1282680" y="399960"/>
            <a:ext cx="680256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Штатное расписание медицинской организации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2" name=""/>
          <p:cNvGraphicFramePr/>
          <p:nvPr/>
        </p:nvGraphicFramePr>
        <p:xfrm>
          <a:off x="289080" y="1143000"/>
          <a:ext cx="8402400" cy="3535200"/>
        </p:xfrm>
        <a:graphic>
          <a:graphicData uri="http://schemas.openxmlformats.org/drawingml/2006/table">
            <a:tbl>
              <a:tblPr/>
              <a:tblGrid>
                <a:gridCol w="1388880"/>
                <a:gridCol w="511200"/>
                <a:gridCol w="584280"/>
                <a:gridCol w="658800"/>
                <a:gridCol w="655560"/>
                <a:gridCol w="585720"/>
                <a:gridCol w="655560"/>
                <a:gridCol w="584280"/>
                <a:gridCol w="1023840"/>
                <a:gridCol w="878040"/>
                <a:gridCol w="876240"/>
              </a:tblGrid>
              <a:tr h="115740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9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3" name="Rectangle 2"/>
          <p:cNvSpPr/>
          <p:nvPr/>
        </p:nvSpPr>
        <p:spPr>
          <a:xfrm>
            <a:off x="1600200" y="457200"/>
            <a:ext cx="5372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marL="670320" indent="-6703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а 1100. Должности и физические лица медицинской организа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Rectangle 1538"/>
          <p:cNvSpPr/>
          <p:nvPr/>
        </p:nvSpPr>
        <p:spPr>
          <a:xfrm>
            <a:off x="290520" y="4842000"/>
            <a:ext cx="8369280" cy="1339560"/>
          </a:xfrm>
          <a:prstGeom prst="rect">
            <a:avLst/>
          </a:prstGeom>
          <a:solidFill>
            <a:srgbClr val="ccc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Врачи «скорой медицинской помощи», работающие в кабинетах неотложной помощи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или в больницах скорой медицинской помощи указываются по графам «в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амбулаторных условиях» или «в стационарных условиях» соответственно, при условии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наличия должности «врач скорой медицинской помощи» в штатном расписании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медицинской организации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Line 66"/>
          <p:cNvSpPr/>
          <p:nvPr/>
        </p:nvSpPr>
        <p:spPr>
          <a:xfrm flipH="1">
            <a:off x="3555720" y="4361040"/>
            <a:ext cx="414360" cy="363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Line 67"/>
          <p:cNvSpPr/>
          <p:nvPr/>
        </p:nvSpPr>
        <p:spPr>
          <a:xfrm flipH="1">
            <a:off x="4022280" y="4368960"/>
            <a:ext cx="414360" cy="363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Line 68"/>
          <p:cNvSpPr/>
          <p:nvPr/>
        </p:nvSpPr>
        <p:spPr>
          <a:xfrm flipH="1">
            <a:off x="4563720" y="4368960"/>
            <a:ext cx="414360" cy="363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Line 69"/>
          <p:cNvSpPr/>
          <p:nvPr/>
        </p:nvSpPr>
        <p:spPr>
          <a:xfrm flipH="1">
            <a:off x="5239800" y="4386240"/>
            <a:ext cx="414360" cy="363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Line 70"/>
          <p:cNvSpPr/>
          <p:nvPr/>
        </p:nvSpPr>
        <p:spPr>
          <a:xfrm flipH="1">
            <a:off x="6849720" y="4386240"/>
            <a:ext cx="414360" cy="363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Line 71"/>
          <p:cNvSpPr/>
          <p:nvPr/>
        </p:nvSpPr>
        <p:spPr>
          <a:xfrm flipH="1">
            <a:off x="7738560" y="4403880"/>
            <a:ext cx="414360" cy="363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1" name=""/>
          <p:cNvGraphicFramePr/>
          <p:nvPr/>
        </p:nvGraphicFramePr>
        <p:xfrm>
          <a:off x="260280" y="1424160"/>
          <a:ext cx="8532720" cy="3443040"/>
        </p:xfrm>
        <a:graphic>
          <a:graphicData uri="http://schemas.openxmlformats.org/drawingml/2006/table">
            <a:tbl>
              <a:tblPr/>
              <a:tblGrid>
                <a:gridCol w="1563840"/>
                <a:gridCol w="479520"/>
                <a:gridCol w="590400"/>
                <a:gridCol w="628560"/>
                <a:gridCol w="676440"/>
                <a:gridCol w="610920"/>
                <a:gridCol w="662040"/>
                <a:gridCol w="596880"/>
                <a:gridCol w="827280"/>
                <a:gridCol w="949320"/>
                <a:gridCol w="947520"/>
              </a:tblGrid>
              <a:tr h="11595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рочие врач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7b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7b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2" name="Rectangle 1538"/>
          <p:cNvSpPr/>
          <p:nvPr/>
        </p:nvSpPr>
        <p:spPr>
          <a:xfrm>
            <a:off x="1433520" y="4913280"/>
            <a:ext cx="6362640" cy="763560"/>
          </a:xfrm>
          <a:prstGeom prst="rect">
            <a:avLst/>
          </a:prstGeom>
          <a:solidFill>
            <a:srgbClr val="fb93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Ошибка: включаются должности отсутствующие в Номенклатуре должностей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(произвольно наименованные)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Rectangle 2"/>
          <p:cNvSpPr/>
          <p:nvPr/>
        </p:nvSpPr>
        <p:spPr>
          <a:xfrm>
            <a:off x="1600200" y="457200"/>
            <a:ext cx="5372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marL="670320" indent="-6703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а 1100. Должности и физические лица медицинской организа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4" name=""/>
          <p:cNvGraphicFramePr/>
          <p:nvPr/>
        </p:nvGraphicFramePr>
        <p:xfrm>
          <a:off x="252360" y="363600"/>
          <a:ext cx="8672400" cy="5843520"/>
        </p:xfrm>
        <a:graphic>
          <a:graphicData uri="http://schemas.openxmlformats.org/drawingml/2006/table">
            <a:tbl>
              <a:tblPr/>
              <a:tblGrid>
                <a:gridCol w="1462320"/>
                <a:gridCol w="512640"/>
                <a:gridCol w="439560"/>
                <a:gridCol w="560520"/>
                <a:gridCol w="604800"/>
                <a:gridCol w="546120"/>
                <a:gridCol w="588960"/>
                <a:gridCol w="533520"/>
                <a:gridCol w="1458720"/>
                <a:gridCol w="922320"/>
                <a:gridCol w="1042920"/>
              </a:tblGrid>
              <a:tr h="100440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6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врачей (стр.1):                                                   врачи клинических  специальностей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ют на основной работе в организациях подчинения: федерально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ъектов Российской Федер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два и более сертификатов специалиста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5" name="Rectangle 628"/>
          <p:cNvSpPr/>
          <p:nvPr/>
        </p:nvSpPr>
        <p:spPr>
          <a:xfrm>
            <a:off x="2259000" y="4270320"/>
            <a:ext cx="6591240" cy="1349280"/>
          </a:xfrm>
          <a:prstGeom prst="rect">
            <a:avLst/>
          </a:prstGeom>
          <a:solidFill>
            <a:srgbClr val="e5e3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ма строк 124 и 125 равна строке 1. По подчиненност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федеральные учреждения, подчинение субъекта РФ) медицинские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и распределяются по состоянию на конец отчетного года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Rectangle 629"/>
          <p:cNvSpPr/>
          <p:nvPr/>
        </p:nvSpPr>
        <p:spPr>
          <a:xfrm>
            <a:off x="2279520" y="2921040"/>
            <a:ext cx="6607440" cy="736560"/>
          </a:xfrm>
          <a:prstGeom prst="rect">
            <a:avLst/>
          </a:prstGeom>
          <a:solidFill>
            <a:srgbClr val="ccc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Сведения в строке 123 не могут превышать значения, указанные в строке 1 (всего). Заполняется вся строка по графам 3-17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"/>
          <p:cNvSpPr txBox="1"/>
          <p:nvPr/>
        </p:nvSpPr>
        <p:spPr>
          <a:xfrm>
            <a:off x="838080" y="906480"/>
            <a:ext cx="8305920" cy="5502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766f54"/>
                </a:solidFill>
                <a:latin typeface="Times New Roman"/>
              </a:rPr>
              <a:t>к врачам клинических специальностей относятся (строка 123):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90360" indent="-9036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766f54"/>
                </a:solidFill>
                <a:latin typeface="Times New Roman"/>
              </a:rPr>
              <a:t>терапевты, пульмонологи, кардиологи, детские кардиологи, ревматологи, гастроэнтерологи, нефрологи, диабетологи, эндокринологи, эндокринологи детские, аллергологи- иммунологи, гематологи, профпатологи, онкологи, онкологи детские, хирурги, хирурги детские, нейрохирурги, хирурги пластические, сердечно-сосудистые хирурги, торакальные хирурги, травматологи-ортопеды, урологи, урологи-андрологи детские, колопроктологи, челюстно-лицевые хирурги, акушеры-гинекологи, педиатры, неонатологи, офтальмологи, оториноларингологи, фтизиатры, неврологи, психиатры, психиатры детские, психиатры подростковые, гериатры, психиатры-наркологи, дерматовенерологи, врачи скорой медицинской помощи, инфекционисты, врачи общей практики (семейные), врачи по рентгенэндоваскулярной диагностике и лечению, </a:t>
            </a:r>
            <a:r>
              <a:rPr b="1" lang="ru-RU" sz="2400" spc="-1" strike="noStrike">
                <a:solidFill>
                  <a:srgbClr val="766f54"/>
                </a:solidFill>
                <a:latin typeface="Times New Roman"/>
              </a:rPr>
              <a:t>врачи здравпунктов, врачи приемного отделения, по медицинской реабилитации, </a:t>
            </a:r>
            <a:r>
              <a:rPr b="0" lang="ru-RU" sz="2400" spc="-1" strike="noStrike">
                <a:solidFill>
                  <a:srgbClr val="766f54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766f54"/>
                </a:solidFill>
                <a:latin typeface="Times New Roman"/>
              </a:rPr>
              <a:t>врачи токсикологи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28" name="Rectangle 629"/>
          <p:cNvSpPr/>
          <p:nvPr/>
        </p:nvSpPr>
        <p:spPr>
          <a:xfrm>
            <a:off x="1463760" y="6051600"/>
            <a:ext cx="6607080" cy="577800"/>
          </a:xfrm>
          <a:prstGeom prst="rect">
            <a:avLst/>
          </a:prstGeom>
          <a:solidFill>
            <a:srgbClr val="fb93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С целью единого подхода использовать всем субъектам РФ данный перечень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Line 3"/>
          <p:cNvSpPr/>
          <p:nvPr/>
        </p:nvSpPr>
        <p:spPr>
          <a:xfrm>
            <a:off x="393372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0" name=""/>
          <p:cNvGraphicFramePr/>
          <p:nvPr/>
        </p:nvGraphicFramePr>
        <p:xfrm>
          <a:off x="347760" y="2122560"/>
          <a:ext cx="8450280" cy="2921040"/>
        </p:xfrm>
        <a:graphic>
          <a:graphicData uri="http://schemas.openxmlformats.org/drawingml/2006/table">
            <a:tbl>
              <a:tblPr/>
              <a:tblGrid>
                <a:gridCol w="2682720"/>
                <a:gridCol w="527040"/>
                <a:gridCol w="731880"/>
                <a:gridCol w="709560"/>
                <a:gridCol w="789120"/>
                <a:gridCol w="1001520"/>
                <a:gridCol w="1086120"/>
                <a:gridCol w="922320"/>
              </a:tblGrid>
              <a:tr h="73116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квалификационную категорию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сертификат специалиста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меют свидетельство об аккредитации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аходятся в декретном и долгосрочном отпуске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179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два и более сертификатов специалиста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3db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3db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1401d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1" name="Rectangle 2"/>
          <p:cNvSpPr/>
          <p:nvPr/>
        </p:nvSpPr>
        <p:spPr>
          <a:xfrm>
            <a:off x="1376280" y="746280"/>
            <a:ext cx="6591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marL="703800" indent="-7038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а 1100. Должности и физические лица медицинской организа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AutoShape 17"/>
          <p:cNvSpPr/>
          <p:nvPr/>
        </p:nvSpPr>
        <p:spPr>
          <a:xfrm>
            <a:off x="6802560" y="4413240"/>
            <a:ext cx="1927080" cy="39672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fb9318"/>
            </a:solidFill>
            <a:miter/>
          </a:ln>
          <a:effectLst>
            <a:outerShdw dist="17819" dir="2700000" blurRad="0" rotWithShape="0">
              <a:srgbClr val="97580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Text Box 541"/>
          <p:cNvSpPr/>
          <p:nvPr/>
        </p:nvSpPr>
        <p:spPr>
          <a:xfrm>
            <a:off x="5086440" y="4997520"/>
            <a:ext cx="375768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  <a:ea typeface="Arial"/>
              </a:rPr>
              <a:t>Строка 126 по графе 16 по логике должна быть равна 0.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  <a:ea typeface="Arial"/>
              </a:rPr>
              <a:t>Графа 17 – заполняется.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4" name=""/>
          <p:cNvGraphicFramePr/>
          <p:nvPr/>
        </p:nvGraphicFramePr>
        <p:xfrm>
          <a:off x="257040" y="453960"/>
          <a:ext cx="8734680" cy="6181920"/>
        </p:xfrm>
        <a:graphic>
          <a:graphicData uri="http://schemas.openxmlformats.org/drawingml/2006/table">
            <a:tbl>
              <a:tblPr/>
              <a:tblGrid>
                <a:gridCol w="2235240"/>
                <a:gridCol w="449280"/>
                <a:gridCol w="486000"/>
                <a:gridCol w="519120"/>
                <a:gridCol w="679320"/>
                <a:gridCol w="523800"/>
                <a:gridCol w="679680"/>
                <a:gridCol w="601560"/>
                <a:gridCol w="828720"/>
                <a:gridCol w="828720"/>
                <a:gridCol w="903240"/>
              </a:tblGrid>
              <a:tr h="82188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ы с высшим немедицинским образованием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пециалисты: биологи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трукторы-методисты по  лечебной физкультуре 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гопед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физик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логи медицински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дебные эксперты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мики-эксперты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олог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перт-физик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мбриолог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нтомолог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5" name="Rectangle 915"/>
          <p:cNvSpPr/>
          <p:nvPr/>
        </p:nvSpPr>
        <p:spPr>
          <a:xfrm>
            <a:off x="3040200" y="2647800"/>
            <a:ext cx="5744880" cy="838440"/>
          </a:xfrm>
          <a:prstGeom prst="rect">
            <a:avLst/>
          </a:prstGeom>
          <a:solidFill>
            <a:srgbClr val="e5e3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В строку 127 не включаются сведения о специалистах с высшим немедицинским образованием, занимающих врачебные должности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Rectangle 917"/>
          <p:cNvSpPr/>
          <p:nvPr/>
        </p:nvSpPr>
        <p:spPr>
          <a:xfrm>
            <a:off x="3040200" y="3586320"/>
            <a:ext cx="5703840" cy="399960"/>
          </a:xfrm>
          <a:prstGeom prst="rect">
            <a:avLst/>
          </a:prstGeom>
          <a:solidFill>
            <a:srgbClr val="ccc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Строка 127 равна сумме строк с 128 по 138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Rectangle 915"/>
          <p:cNvSpPr/>
          <p:nvPr/>
        </p:nvSpPr>
        <p:spPr>
          <a:xfrm>
            <a:off x="3040200" y="4087800"/>
            <a:ext cx="5703840" cy="1535040"/>
          </a:xfrm>
          <a:prstGeom prst="rect">
            <a:avLst/>
          </a:prstGeom>
          <a:solidFill>
            <a:srgbClr val="e3ea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Обратите внимание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на заполнение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граф 15 «Имеют сертификат» Сертификат указывается при наличии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документа установленного образца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и 16 «Имеют свидетельство об аккредитации» должна быть равна 0.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8" name=""/>
          <p:cNvGraphicFramePr/>
          <p:nvPr/>
        </p:nvGraphicFramePr>
        <p:xfrm>
          <a:off x="361800" y="263520"/>
          <a:ext cx="8501040" cy="5896080"/>
        </p:xfrm>
        <a:graphic>
          <a:graphicData uri="http://schemas.openxmlformats.org/drawingml/2006/table">
            <a:tbl>
              <a:tblPr/>
              <a:tblGrid>
                <a:gridCol w="1832040"/>
                <a:gridCol w="439920"/>
                <a:gridCol w="587160"/>
                <a:gridCol w="731880"/>
                <a:gridCol w="585720"/>
                <a:gridCol w="513000"/>
                <a:gridCol w="733320"/>
                <a:gridCol w="660240"/>
                <a:gridCol w="731880"/>
                <a:gridCol w="879480"/>
                <a:gridCol w="806400"/>
              </a:tblGrid>
              <a:tr h="82188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персонал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в организациях, расположенных в сельской местност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ют на основной работе в организациях подчинения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ерально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ъектов Российской Федер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торы сестринского дела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стр. 143)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de7e18"/>
                          </a:solidFill>
                          <a:latin typeface="Arial"/>
                          <a:ea typeface="Times New Roman"/>
                        </a:rPr>
                        <a:t>Заполняется вся строка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39" name="Rectangle 694"/>
          <p:cNvSpPr/>
          <p:nvPr/>
        </p:nvSpPr>
        <p:spPr>
          <a:xfrm>
            <a:off x="2827440" y="3944880"/>
            <a:ext cx="5848200" cy="30492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Сумма строк 145 и 146 равна строке 143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Rectangle 719"/>
          <p:cNvSpPr/>
          <p:nvPr/>
        </p:nvSpPr>
        <p:spPr>
          <a:xfrm>
            <a:off x="2870280" y="4334040"/>
            <a:ext cx="5898960" cy="1050840"/>
          </a:xfrm>
          <a:prstGeom prst="rect">
            <a:avLst/>
          </a:prstGeom>
          <a:solidFill>
            <a:srgbClr val="8399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Показываются специалисты с высшим или средним медицинским образованием, имеющие данную специальность, не зависимо от должности, которую они занимают в среднем медицинском персонале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Line 720"/>
          <p:cNvSpPr/>
          <p:nvPr/>
        </p:nvSpPr>
        <p:spPr>
          <a:xfrm flipV="1">
            <a:off x="2513160" y="5249520"/>
            <a:ext cx="560160" cy="878040"/>
          </a:xfrm>
          <a:prstGeom prst="line">
            <a:avLst/>
          </a:prstGeom>
          <a:ln w="73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Rectangle 721"/>
          <p:cNvSpPr/>
          <p:nvPr/>
        </p:nvSpPr>
        <p:spPr>
          <a:xfrm>
            <a:off x="2803680" y="2652840"/>
            <a:ext cx="5908680" cy="1066680"/>
          </a:xfrm>
          <a:prstGeom prst="rect">
            <a:avLst/>
          </a:prstGeom>
          <a:solidFill>
            <a:srgbClr val="e5e3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Медицинских сестер с высшим медицинским образованием, занимающих должност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врачей-методистов или врачей-статистик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 строку 143 не включать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3" name=""/>
          <p:cNvGraphicFramePr/>
          <p:nvPr/>
        </p:nvGraphicFramePr>
        <p:xfrm>
          <a:off x="284040" y="777960"/>
          <a:ext cx="8499600" cy="5798880"/>
        </p:xfrm>
        <a:graphic>
          <a:graphicData uri="http://schemas.openxmlformats.org/drawingml/2006/table">
            <a:tbl>
              <a:tblPr/>
              <a:tblGrid>
                <a:gridCol w="1597320"/>
                <a:gridCol w="477720"/>
                <a:gridCol w="758880"/>
                <a:gridCol w="726840"/>
                <a:gridCol w="581040"/>
                <a:gridCol w="652680"/>
                <a:gridCol w="581040"/>
                <a:gridCol w="653760"/>
                <a:gridCol w="873360"/>
                <a:gridCol w="796680"/>
                <a:gridCol w="800280"/>
              </a:tblGrid>
              <a:tr h="10065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6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среднего медперсонала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стр. 143):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к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гиенисты стоматологически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едующи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заведующие фельдшерско-акушерским пунктом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омощники  врачей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4" name="Rectangle 719"/>
          <p:cNvSpPr/>
          <p:nvPr/>
        </p:nvSpPr>
        <p:spPr>
          <a:xfrm>
            <a:off x="2527200" y="2859120"/>
            <a:ext cx="6189840" cy="1828800"/>
          </a:xfrm>
          <a:prstGeom prst="rect">
            <a:avLst/>
          </a:prstGeom>
          <a:solidFill>
            <a:srgbClr val="d1d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0000"/>
                </a:solidFill>
                <a:uFillTx/>
                <a:latin typeface="Times New Roman"/>
                <a:ea typeface="Arial"/>
              </a:rPr>
              <a:t>в строке 150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Arial"/>
              </a:rPr>
              <a:t> указывать следующие должности: заведующий молочной кухней; заведующий здравпунктом–фельдшер (медицинская сестра);заведующий ФАП– фельдшер (акушер, медицинская сестра); заведующий кабинетом медпрофилактики– фельдшер (медицинская сестра); заведующий отделом, отделением, лабораторией, кабинетом зубопротезирования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Rectangle 804"/>
          <p:cNvSpPr/>
          <p:nvPr/>
        </p:nvSpPr>
        <p:spPr>
          <a:xfrm>
            <a:off x="2494080" y="4781520"/>
            <a:ext cx="6273720" cy="175896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в строке 20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указывать должности помощников: врача-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эпидемиолога, врача-паразитолога, врача по гигиене детей и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подростков, врача по гигиене питания, врача по гигиене труда,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врача по гигиеническому воспитанию, врача по коммунально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гигиене, врача по общей гигиене, врача по радиационной гигиене, помощник энтомолога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6" name=""/>
          <p:cNvGraphicFramePr/>
          <p:nvPr/>
        </p:nvGraphicFramePr>
        <p:xfrm>
          <a:off x="455760" y="468360"/>
          <a:ext cx="8442000" cy="5753160"/>
        </p:xfrm>
        <a:graphic>
          <a:graphicData uri="http://schemas.openxmlformats.org/drawingml/2006/table">
            <a:tbl>
              <a:tblPr/>
              <a:tblGrid>
                <a:gridCol w="1576080"/>
                <a:gridCol w="465120"/>
                <a:gridCol w="627120"/>
                <a:gridCol w="722520"/>
                <a:gridCol w="720720"/>
                <a:gridCol w="565200"/>
                <a:gridCol w="591840"/>
                <a:gridCol w="501840"/>
                <a:gridCol w="819000"/>
                <a:gridCol w="827280"/>
                <a:gridCol w="1025280"/>
              </a:tblGrid>
              <a:tr h="100440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квалификационную категорию (из гр.9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сертификат специалиста (из гр.9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меют свидетельство об аккредитации (из гр.9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аходятся в декретном и долгосрочном отпуске (из гр.9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246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борант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dd4a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9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dd4a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бораторное дел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стология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1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бораторная диагностика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2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1" lang="ru-RU" sz="1400" spc="-1" strike="noStrike">
                          <a:solidFill>
                            <a:srgbClr val="de7e18"/>
                          </a:solidFill>
                          <a:latin typeface="Times New Roman"/>
                          <a:ea typeface="Times New Roman"/>
                        </a:rPr>
                        <a:t>Разница (ошибка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лабораторные техники (фельдшеры-лаборанты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dd4a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3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dd4a9"/>
                    </a:solidFill>
                  </a:tcPr>
                </a:tc>
                <a:tc gridSpan="9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огичный контроль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47" name="AutoShape 17"/>
          <p:cNvSpPr/>
          <p:nvPr/>
        </p:nvSpPr>
        <p:spPr>
          <a:xfrm>
            <a:off x="2482920" y="4819680"/>
            <a:ext cx="1376280" cy="39672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fb9318"/>
            </a:solidFill>
            <a:miter/>
          </a:ln>
          <a:effectLst>
            <a:outerShdw dist="17819" dir="2700000" blurRad="0" rotWithShape="0">
              <a:srgbClr val="97580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8" name=""/>
          <p:cNvGraphicFramePr/>
          <p:nvPr/>
        </p:nvGraphicFramePr>
        <p:xfrm>
          <a:off x="455760" y="468360"/>
          <a:ext cx="8442000" cy="5394240"/>
        </p:xfrm>
        <a:graphic>
          <a:graphicData uri="http://schemas.openxmlformats.org/drawingml/2006/table">
            <a:tbl>
              <a:tblPr/>
              <a:tblGrid>
                <a:gridCol w="1576080"/>
                <a:gridCol w="465120"/>
                <a:gridCol w="627120"/>
                <a:gridCol w="722520"/>
                <a:gridCol w="720720"/>
                <a:gridCol w="565200"/>
                <a:gridCol w="591840"/>
                <a:gridCol w="501840"/>
                <a:gridCol w="819000"/>
                <a:gridCol w="827280"/>
                <a:gridCol w="1025280"/>
              </a:tblGrid>
              <a:tr h="100440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квалификационную категорию (из гр.9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сертификат специалиста (из гр.9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азница между гр.9 и гр. 15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246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борант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dd4a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9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dd4a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бораторное дел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стология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1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бораторная диагностика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2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лабораторные техники (фельдшеры-лаборанты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dd4a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3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dd4a9"/>
                    </a:solidFill>
                  </a:tcPr>
                </a:tc>
                <a:tc gridSpan="9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огичный контроль по строкам 45-47,67-68,69-70, 71-72, 73-74, 96-100, 109-110, 127-138, 139-142, 150-151, 152-153, 163-166, 198-201, 202-206, 208-211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49" name="AutoShape 17"/>
          <p:cNvSpPr/>
          <p:nvPr/>
        </p:nvSpPr>
        <p:spPr>
          <a:xfrm>
            <a:off x="7155000" y="3195720"/>
            <a:ext cx="556920" cy="812880"/>
          </a:xfrm>
          <a:custGeom>
            <a:avLst/>
            <a:gdLst>
              <a:gd name="textAreaLeft" fmla="*/ 27000 w 556920"/>
              <a:gd name="textAreaRight" fmla="*/ 529920 w 556920"/>
              <a:gd name="textAreaTop" fmla="*/ 27000 h 812880"/>
              <a:gd name="textAreaBottom" fmla="*/ 785880 h 812880"/>
            </a:gdLst>
            <a:ahLst/>
            <a:rect l="textAreaLeft" t="textAreaTop" r="textAreaRight" b="textAreaBottom"/>
            <a:pathLst>
              <a:path w="21600" h="31521">
                <a:moveTo>
                  <a:pt x="3600" y="0"/>
                </a:moveTo>
                <a:arcTo wR="3600" hR="3600" stAng="16200000" swAng="-5400000"/>
                <a:lnTo>
                  <a:pt x="0" y="27921"/>
                </a:lnTo>
                <a:arcTo wR="3600" hR="3600" stAng="10800000" swAng="-5400000"/>
                <a:lnTo>
                  <a:pt x="18000" y="315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3360">
            <a:solidFill>
              <a:srgbClr val="fb9318"/>
            </a:solidFill>
            <a:miter/>
          </a:ln>
          <a:effectLst>
            <a:outerShdw dist="17819" dir="2700000" blurRad="0" rotWithShape="0">
              <a:srgbClr val="97580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Стрелка влево 1"/>
          <p:cNvSpPr/>
          <p:nvPr/>
        </p:nvSpPr>
        <p:spPr>
          <a:xfrm>
            <a:off x="7711920" y="3017880"/>
            <a:ext cx="1390680" cy="15984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a5301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шибка!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р.160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= стр.159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Подзаголовок 2"/>
          <p:cNvSpPr/>
          <p:nvPr/>
        </p:nvSpPr>
        <p:spPr>
          <a:xfrm>
            <a:off x="1682640" y="204840"/>
            <a:ext cx="60483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рядок составления штатного расписания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Text Box 4"/>
          <p:cNvSpPr/>
          <p:nvPr/>
        </p:nvSpPr>
        <p:spPr>
          <a:xfrm>
            <a:off x="271440" y="1855800"/>
            <a:ext cx="8664480" cy="43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4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именования должностей указывается согласно квалификационным справочникам или профессиональным стандартам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4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4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4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4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о необходимо, если сотрудники получают компенсации и льготы, например, досрочную пенсию или дополнительный отпуск. Или для должностей, по которым закон устанавливает ограничения, например, есть необходимость проходить предрейсовый медосмотр. Медработники, водители и педагоги подпадают под действие этой нормы (</a:t>
            </a:r>
            <a:r>
              <a:rPr b="0" lang="ru-RU" sz="1800" spc="-1" strike="noStrike" u="sng">
                <a:solidFill>
                  <a:srgbClr val="fb4a18"/>
                </a:solidFill>
                <a:uFillTx/>
                <a:latin typeface="Times New Roman"/>
                <a:hlinkClick r:id="rId1"/>
              </a:rPr>
              <a:t>ч. 2 ст. 57 ТК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4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1" name=""/>
          <p:cNvGraphicFramePr/>
          <p:nvPr/>
        </p:nvGraphicFramePr>
        <p:xfrm>
          <a:off x="270000" y="324000"/>
          <a:ext cx="8601120" cy="6242040"/>
        </p:xfrm>
        <a:graphic>
          <a:graphicData uri="http://schemas.openxmlformats.org/drawingml/2006/table">
            <a:tbl>
              <a:tblPr/>
              <a:tblGrid>
                <a:gridCol w="1757160"/>
                <a:gridCol w="414360"/>
                <a:gridCol w="633600"/>
                <a:gridCol w="617400"/>
                <a:gridCol w="806400"/>
                <a:gridCol w="728640"/>
                <a:gridCol w="655560"/>
                <a:gridCol w="582840"/>
                <a:gridCol w="803160"/>
                <a:gridCol w="801720"/>
                <a:gridCol w="800280"/>
              </a:tblGrid>
              <a:tr h="1004400">
                <a:tc rowSpan="3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сестр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931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931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стринское дело с высшим медицинским образованием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16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алавр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вление сестрин ской деятельностью с высшим медицинским образованием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17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специальности: организация сестринского дела    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стринское дел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стринское дело в педиатр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2" name="Rectangle 862"/>
          <p:cNvSpPr/>
          <p:nvPr/>
        </p:nvSpPr>
        <p:spPr>
          <a:xfrm>
            <a:off x="2522520" y="2884320"/>
            <a:ext cx="6369120" cy="200988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 строках 168-173 указываются физические лица с высшим и средним медицинским образованием независимо от того, какую фактически должность они занимают в категории среднего медперсонала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Rectangle 880"/>
          <p:cNvSpPr/>
          <p:nvPr/>
        </p:nvSpPr>
        <p:spPr>
          <a:xfrm>
            <a:off x="2522520" y="5056200"/>
            <a:ext cx="6348600" cy="609480"/>
          </a:xfrm>
          <a:prstGeom prst="rect">
            <a:avLst/>
          </a:prstGeom>
          <a:solidFill>
            <a:srgbClr val="fb93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Строка 167 может быть больше или равна сумме строк с 168 по 173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AutoShape 137"/>
          <p:cNvSpPr/>
          <p:nvPr/>
        </p:nvSpPr>
        <p:spPr>
          <a:xfrm>
            <a:off x="1897200" y="3056040"/>
            <a:ext cx="88920" cy="1838160"/>
          </a:xfrm>
          <a:custGeom>
            <a:avLst/>
            <a:gdLst>
              <a:gd name="textAreaLeft" fmla="*/ 56880 w 88920"/>
              <a:gd name="textAreaRight" fmla="*/ 89280 w 88920"/>
              <a:gd name="textAreaTop" fmla="*/ 47880 h 1838160"/>
              <a:gd name="textAreaBottom" fmla="*/ 1790280 h 1838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  <a:effectLst>
            <a:outerShdw dist="17819" dir="2700000" blurRad="0" rotWithShape="0">
              <a:srgbClr val="631d0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AutoShape 138"/>
          <p:cNvSpPr/>
          <p:nvPr/>
        </p:nvSpPr>
        <p:spPr>
          <a:xfrm>
            <a:off x="1854360" y="3336840"/>
            <a:ext cx="88920" cy="1455840"/>
          </a:xfrm>
          <a:custGeom>
            <a:avLst/>
            <a:gdLst>
              <a:gd name="textAreaLeft" fmla="*/ 56880 w 88920"/>
              <a:gd name="textAreaRight" fmla="*/ 89280 w 88920"/>
              <a:gd name="textAreaTop" fmla="*/ 37800 h 1455840"/>
              <a:gd name="textAreaBottom" fmla="*/ 1418040 h 145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AutoShape 139"/>
          <p:cNvSpPr/>
          <p:nvPr/>
        </p:nvSpPr>
        <p:spPr>
          <a:xfrm>
            <a:off x="1811160" y="5056200"/>
            <a:ext cx="88920" cy="1455840"/>
          </a:xfrm>
          <a:custGeom>
            <a:avLst/>
            <a:gdLst>
              <a:gd name="textAreaLeft" fmla="*/ 56880 w 88920"/>
              <a:gd name="textAreaRight" fmla="*/ 89280 w 88920"/>
              <a:gd name="textAreaTop" fmla="*/ 37800 h 1455840"/>
              <a:gd name="textAreaBottom" fmla="*/ 1418040 h 145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7" name=""/>
          <p:cNvGraphicFramePr/>
          <p:nvPr/>
        </p:nvGraphicFramePr>
        <p:xfrm>
          <a:off x="270000" y="324000"/>
          <a:ext cx="8601120" cy="6242040"/>
        </p:xfrm>
        <a:graphic>
          <a:graphicData uri="http://schemas.openxmlformats.org/drawingml/2006/table">
            <a:tbl>
              <a:tblPr/>
              <a:tblGrid>
                <a:gridCol w="1757160"/>
                <a:gridCol w="414360"/>
                <a:gridCol w="633600"/>
                <a:gridCol w="617400"/>
                <a:gridCol w="806400"/>
                <a:gridCol w="728640"/>
                <a:gridCol w="655560"/>
                <a:gridCol w="582840"/>
                <a:gridCol w="803160"/>
                <a:gridCol w="801720"/>
                <a:gridCol w="800280"/>
              </a:tblGrid>
              <a:tr h="1004400">
                <a:tc rowSpan="3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сестр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931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931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стринское дело с высшим медицинским образованием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16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алавр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вление сестрин ской деятельностью с высшим медицинским образованием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17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специальности: организация сестринского дела    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стринское дел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стринское дело в педиатр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8" name="Rectangle 859"/>
          <p:cNvSpPr/>
          <p:nvPr/>
        </p:nvSpPr>
        <p:spPr>
          <a:xfrm>
            <a:off x="2490840" y="2610000"/>
            <a:ext cx="6345360" cy="114768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Строка 167 должна быть больше суммы строк с 168 по 170. То есть специалисты с высшим медицинским образованием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Rectangle 863"/>
          <p:cNvSpPr/>
          <p:nvPr/>
        </p:nvSpPr>
        <p:spPr>
          <a:xfrm>
            <a:off x="2482920" y="4214880"/>
            <a:ext cx="6337080" cy="117144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Строка 167 должна быть больше суммы строк с 171 по 173. То есть специалисты со средним медицинским образованием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AutoShape 137"/>
          <p:cNvSpPr/>
          <p:nvPr/>
        </p:nvSpPr>
        <p:spPr>
          <a:xfrm>
            <a:off x="1897200" y="3056040"/>
            <a:ext cx="88920" cy="1838160"/>
          </a:xfrm>
          <a:custGeom>
            <a:avLst/>
            <a:gdLst>
              <a:gd name="textAreaLeft" fmla="*/ 56880 w 88920"/>
              <a:gd name="textAreaRight" fmla="*/ 89280 w 88920"/>
              <a:gd name="textAreaTop" fmla="*/ 47880 h 1838160"/>
              <a:gd name="textAreaBottom" fmla="*/ 1790280 h 1838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  <a:effectLst>
            <a:outerShdw dist="17819" dir="2700000" blurRad="0" rotWithShape="0">
              <a:srgbClr val="631d0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AutoShape 138"/>
          <p:cNvSpPr/>
          <p:nvPr/>
        </p:nvSpPr>
        <p:spPr>
          <a:xfrm>
            <a:off x="1854360" y="3336840"/>
            <a:ext cx="88920" cy="1455840"/>
          </a:xfrm>
          <a:custGeom>
            <a:avLst/>
            <a:gdLst>
              <a:gd name="textAreaLeft" fmla="*/ 56880 w 88920"/>
              <a:gd name="textAreaRight" fmla="*/ 89280 w 88920"/>
              <a:gd name="textAreaTop" fmla="*/ 37800 h 1455840"/>
              <a:gd name="textAreaBottom" fmla="*/ 1418040 h 145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AutoShape 139"/>
          <p:cNvSpPr/>
          <p:nvPr/>
        </p:nvSpPr>
        <p:spPr>
          <a:xfrm>
            <a:off x="1811160" y="5056200"/>
            <a:ext cx="88920" cy="1455840"/>
          </a:xfrm>
          <a:custGeom>
            <a:avLst/>
            <a:gdLst>
              <a:gd name="textAreaLeft" fmla="*/ 56880 w 88920"/>
              <a:gd name="textAreaRight" fmla="*/ 89280 w 88920"/>
              <a:gd name="textAreaTop" fmla="*/ 37800 h 1455840"/>
              <a:gd name="textAreaBottom" fmla="*/ 1418040 h 145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3" name=""/>
          <p:cNvGraphicFramePr/>
          <p:nvPr/>
        </p:nvGraphicFramePr>
        <p:xfrm>
          <a:off x="270000" y="324000"/>
          <a:ext cx="8601120" cy="6242040"/>
        </p:xfrm>
        <a:graphic>
          <a:graphicData uri="http://schemas.openxmlformats.org/drawingml/2006/table">
            <a:tbl>
              <a:tblPr/>
              <a:tblGrid>
                <a:gridCol w="1757160"/>
                <a:gridCol w="414360"/>
                <a:gridCol w="633600"/>
                <a:gridCol w="617400"/>
                <a:gridCol w="806400"/>
                <a:gridCol w="728640"/>
                <a:gridCol w="655560"/>
                <a:gridCol w="582840"/>
                <a:gridCol w="803160"/>
                <a:gridCol w="801720"/>
                <a:gridCol w="800280"/>
              </a:tblGrid>
              <a:tr h="1004400">
                <a:tc rowSpan="3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сестр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931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931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стринское дело с высшим медицинским образованием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алавр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вление сестрин ской деятельностью с высшим медицинским образованием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специальности: организация сестринского дела    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стринское дел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стринское дело в педиатр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4" name="Rectangle 862"/>
          <p:cNvSpPr/>
          <p:nvPr/>
        </p:nvSpPr>
        <p:spPr>
          <a:xfrm>
            <a:off x="2558880" y="1198440"/>
            <a:ext cx="6370920" cy="155124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ысшее образование - специалитет по специальности "Сестринское дело»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пример: К профессиональной деятельности в качестве медицинской сестры врача общей практики допускаются лица, получившие высшее медицинское образование по специальности "Сестринское дело" и сертификат по специальности "Общая практика".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Rectangle 863"/>
          <p:cNvSpPr/>
          <p:nvPr/>
        </p:nvSpPr>
        <p:spPr>
          <a:xfrm>
            <a:off x="2584440" y="4221000"/>
            <a:ext cx="6337440" cy="2400480"/>
          </a:xfrm>
          <a:prstGeom prst="rect">
            <a:avLst/>
          </a:prstGeom>
          <a:solidFill>
            <a:srgbClr val="d1d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ысшее образование - специалитет по специальности "Сестринское дело« и подготовка в интернатуре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 специальности "Управление сестринской деятельностью»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олжности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Заместитель руководителя МО; главная медицинская сестра (главная акушерка, главный фельдшер); директор больницы (дома) сестринского ухода, хосписа; заведующий (начальник) структурного подразделения (отдела, отделения, лаборатории, кабинета, отряда и другое) медицинской организации - врач-статистик; заведующий (начальник) структурного подразделения (отдела, отделения, лаборатории, кабинета, отряда и другое) медицинской организации - врач-методист; врач-статистик; врач-методист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Rectangle 880"/>
          <p:cNvSpPr/>
          <p:nvPr/>
        </p:nvSpPr>
        <p:spPr>
          <a:xfrm>
            <a:off x="2575080" y="2901960"/>
            <a:ext cx="6251400" cy="1244520"/>
          </a:xfrm>
          <a:prstGeom prst="rect">
            <a:avLst/>
          </a:prstGeom>
          <a:solidFill>
            <a:srgbClr val="ede6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ысшее образование - бакалавриат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по направлению подготовки "Сестринское дело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олжности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«Медицинская сестра общей практики, медицинская сестра по паллиативной помощи, медицинская сестра по профилактике, медицинская сестра по реабилитации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Line 720"/>
          <p:cNvSpPr/>
          <p:nvPr/>
        </p:nvSpPr>
        <p:spPr>
          <a:xfrm flipV="1">
            <a:off x="2216160" y="2362320"/>
            <a:ext cx="560520" cy="877680"/>
          </a:xfrm>
          <a:prstGeom prst="line">
            <a:avLst/>
          </a:prstGeom>
          <a:ln w="73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Line 720"/>
          <p:cNvSpPr/>
          <p:nvPr/>
        </p:nvSpPr>
        <p:spPr>
          <a:xfrm>
            <a:off x="2376360" y="3908520"/>
            <a:ext cx="425520" cy="3240"/>
          </a:xfrm>
          <a:prstGeom prst="line">
            <a:avLst/>
          </a:prstGeom>
          <a:ln w="73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Line 720"/>
          <p:cNvSpPr/>
          <p:nvPr/>
        </p:nvSpPr>
        <p:spPr>
          <a:xfrm>
            <a:off x="2131920" y="4390920"/>
            <a:ext cx="654120" cy="333360"/>
          </a:xfrm>
          <a:prstGeom prst="line">
            <a:avLst/>
          </a:prstGeom>
          <a:ln w="73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0" name=""/>
          <p:cNvGraphicFramePr/>
          <p:nvPr/>
        </p:nvGraphicFramePr>
        <p:xfrm>
          <a:off x="291960" y="193680"/>
          <a:ext cx="8629920" cy="6467400"/>
        </p:xfrm>
        <a:graphic>
          <a:graphicData uri="http://schemas.openxmlformats.org/drawingml/2006/table">
            <a:tbl>
              <a:tblPr/>
              <a:tblGrid>
                <a:gridCol w="1643040"/>
                <a:gridCol w="532080"/>
                <a:gridCol w="538200"/>
                <a:gridCol w="633240"/>
                <a:gridCol w="676440"/>
                <a:gridCol w="615960"/>
                <a:gridCol w="661680"/>
                <a:gridCol w="601920"/>
                <a:gridCol w="723960"/>
                <a:gridCol w="992160"/>
                <a:gridCol w="1011240"/>
              </a:tblGrid>
              <a:tr h="82188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-ких лиц основных работ-ников на занятых должно-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-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-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сестр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строки 167: анестезист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й общей практики  (семейных врачей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етически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ко-социальной помощ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 функциональ ной диагностик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1" name="Rectangle 885"/>
          <p:cNvSpPr/>
          <p:nvPr/>
        </p:nvSpPr>
        <p:spPr>
          <a:xfrm>
            <a:off x="2516040" y="3301920"/>
            <a:ext cx="6321600" cy="381240"/>
          </a:xfrm>
          <a:prstGeom prst="rect">
            <a:avLst/>
          </a:prstGeom>
          <a:solidFill>
            <a:srgbClr val="d1d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Строка 167 может быть больше суммы строк с 174 по 193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Rectangle 885"/>
          <p:cNvSpPr/>
          <p:nvPr/>
        </p:nvSpPr>
        <p:spPr>
          <a:xfrm>
            <a:off x="2573280" y="4135320"/>
            <a:ext cx="6264360" cy="397080"/>
          </a:xfrm>
          <a:prstGeom prst="rect">
            <a:avLst/>
          </a:prstGeom>
          <a:solidFill>
            <a:srgbClr val="d1d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Главная медсестра включается только в строку 167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3" name=""/>
          <p:cNvGraphicFramePr/>
          <p:nvPr/>
        </p:nvGraphicFramePr>
        <p:xfrm>
          <a:off x="219240" y="217440"/>
          <a:ext cx="8691480" cy="6145200"/>
        </p:xfrm>
        <a:graphic>
          <a:graphicData uri="http://schemas.openxmlformats.org/drawingml/2006/table">
            <a:tbl>
              <a:tblPr/>
              <a:tblGrid>
                <a:gridCol w="1798560"/>
                <a:gridCol w="523800"/>
                <a:gridCol w="598320"/>
                <a:gridCol w="675000"/>
                <a:gridCol w="598320"/>
                <a:gridCol w="571680"/>
                <a:gridCol w="704520"/>
                <a:gridCol w="600120"/>
                <a:gridCol w="898560"/>
                <a:gridCol w="822240"/>
                <a:gridCol w="900360"/>
              </a:tblGrid>
              <a:tr h="82188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рмацевт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работают на основной работе в организациях подчинения: федерально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ъектов РФ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птечных организац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4" name="Rectangle 1245"/>
          <p:cNvSpPr/>
          <p:nvPr/>
        </p:nvSpPr>
        <p:spPr>
          <a:xfrm>
            <a:off x="2612880" y="2876400"/>
            <a:ext cx="6193080" cy="457200"/>
          </a:xfrm>
          <a:prstGeom prst="rect">
            <a:avLst/>
          </a:prstGeom>
          <a:solidFill>
            <a:srgbClr val="d1d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Строка 213 должна быть равна сумме строк 214 и 215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Rectangle 1249"/>
          <p:cNvSpPr/>
          <p:nvPr/>
        </p:nvSpPr>
        <p:spPr>
          <a:xfrm>
            <a:off x="2581200" y="3618000"/>
            <a:ext cx="6259680" cy="914400"/>
          </a:xfrm>
          <a:prstGeom prst="rect">
            <a:avLst/>
          </a:prstGeom>
          <a:solidFill>
            <a:srgbClr val="e5e3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о строке 216 указываются сведения в случае, если такие организации есть в подчинении субъекта или в подчинении Минздрава Росс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Text Box 1253"/>
          <p:cNvSpPr/>
          <p:nvPr/>
        </p:nvSpPr>
        <p:spPr>
          <a:xfrm>
            <a:off x="7703280" y="181080"/>
            <a:ext cx="1499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imes New Roman"/>
                <a:ea typeface="Arial"/>
              </a:rPr>
              <a:t>Внимание!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7" name=""/>
          <p:cNvGraphicFramePr/>
          <p:nvPr/>
        </p:nvGraphicFramePr>
        <p:xfrm>
          <a:off x="230040" y="289080"/>
          <a:ext cx="8697960" cy="5459400"/>
        </p:xfrm>
        <a:graphic>
          <a:graphicData uri="http://schemas.openxmlformats.org/drawingml/2006/table">
            <a:tbl>
              <a:tblPr/>
              <a:tblGrid>
                <a:gridCol w="1656000"/>
                <a:gridCol w="538200"/>
                <a:gridCol w="542880"/>
                <a:gridCol w="635040"/>
                <a:gridCol w="682560"/>
                <a:gridCol w="620640"/>
                <a:gridCol w="668520"/>
                <a:gridCol w="603000"/>
                <a:gridCol w="731880"/>
                <a:gridCol w="1000080"/>
                <a:gridCol w="1019160"/>
              </a:tblGrid>
              <a:tr h="82188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-ких лиц основных работ-ников на занятых должно-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-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-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94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,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без медицинского образования занимающих должности среднего персонала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медицинских регистраторов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х регистраторов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трукторов по лечебной физкультур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8" name="Rectangle 885"/>
          <p:cNvSpPr/>
          <p:nvPr/>
        </p:nvSpPr>
        <p:spPr>
          <a:xfrm>
            <a:off x="2533680" y="2932200"/>
            <a:ext cx="6224400" cy="124452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9,10,11 графах показывают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ие лиц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ез медицинского образования и занимающие должности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дицинских регистраторов, медицинских дезинфекторов, инструкторов по лечебной физкультуре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ости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нимаемые ими показываются в графах 3-8 соответствующих строк 196, 194, 157.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Text Box 868"/>
          <p:cNvSpPr/>
          <p:nvPr/>
        </p:nvSpPr>
        <p:spPr>
          <a:xfrm>
            <a:off x="7499880" y="195120"/>
            <a:ext cx="1499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Внимание!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Rectangle 885"/>
          <p:cNvSpPr/>
          <p:nvPr/>
        </p:nvSpPr>
        <p:spPr>
          <a:xfrm>
            <a:off x="2558880" y="4465800"/>
            <a:ext cx="6224760" cy="124452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у 229 показывают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ие лиц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ез медицинского образования (в том числе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удентов медицинских Вузов, имеющих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уск к должности среднего медперсонала, медицинские сестры «Красный Крест»)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1099800" y="47628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900" spc="-1" strike="noStrike">
                <a:solidFill>
                  <a:srgbClr val="262626"/>
                </a:solidFill>
                <a:latin typeface="Century Gothic"/>
              </a:rPr>
              <a:t>Несколько слов о трудоустройстве студентов.</a:t>
            </a:r>
            <a:endParaRPr b="0" lang="en-US" sz="29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82" name=""/>
          <p:cNvSpPr txBox="1"/>
          <p:nvPr/>
        </p:nvSpPr>
        <p:spPr>
          <a:xfrm>
            <a:off x="457200" y="1600200"/>
            <a:ext cx="822960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Приказом Минздрава РФ от 27.06.2016 N 419н утвержден Порядок допуска лиц к осуществлению медицинской (фармацевтической) деятельности на должностях среднего медицинского (фармацевтического) персонала, в соответствии с которым лица,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</a:rPr>
              <a:t>не завершившие освоение образовательных программ высшего медицинского (фармацевтического) образования, могут быть приняты на работу на указанные должности при наличии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- справки об обучении или о периоде обучения, подтверждающей освоение образовательной программы в необходимом объеме и по специальности;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- положительного результата сдачи экзамена по допуску к осуществлению медицинской (фармацевтической) деятельности (проводится в образовательном учреждении)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Например, лица с незаконченным высшим образованием, освоившие образовательную программу высшего медицинского образования по специальностям "Лечебное дело", "Педиатрия", "Медико-профилактическое дело", "Стоматология" в объеме трех курсов и более или по направлению подготовки "Сестринское дело" в объеме двух курсов и более либо имеющие диплом специалиста (диплом бакалавра) по специальности "Лечебное дело", "Педиатрия", "Медико-профилактическое дело", "Сестринское дело" или "Стоматология",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</a:rPr>
              <a:t>могут быть приняты на работу в качестве медицинской сестры (медбрата), в том числе палатной, перевязочной, процедурной, по приему вызовов скорой медицинской помощи, приемного отделения, участковой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633240" y="628560"/>
            <a:ext cx="79092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262626"/>
                </a:solidFill>
                <a:latin typeface="Century Gothic"/>
              </a:rPr>
              <a:t>Сверка т.1100 с данными федерального регистра медицинских работников (ФРМР)</a:t>
            </a:r>
            <a:endParaRPr b="0" lang="en-US" sz="25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784" name=""/>
          <p:cNvGraphicFramePr/>
          <p:nvPr/>
        </p:nvGraphicFramePr>
        <p:xfrm>
          <a:off x="160200" y="2641680"/>
          <a:ext cx="8856720" cy="2141280"/>
        </p:xfrm>
        <a:graphic>
          <a:graphicData uri="http://schemas.openxmlformats.org/drawingml/2006/table">
            <a:tbl>
              <a:tblPr/>
              <a:tblGrid>
                <a:gridCol w="608040"/>
                <a:gridCol w="696960"/>
                <a:gridCol w="754200"/>
                <a:gridCol w="941400"/>
                <a:gridCol w="834840"/>
                <a:gridCol w="922320"/>
                <a:gridCol w="1190880"/>
                <a:gridCol w="1285560"/>
                <a:gridCol w="852840"/>
                <a:gridCol w="769680"/>
              </a:tblGrid>
              <a:tr h="30024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№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/п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убъект Российской Федерации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аименование медицинской организации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 gridSpan="7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оличество сотрудников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2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сего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рачи и руководители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 том числе руководители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редний мед.персонал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ладший мед.персонал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ровизоры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Фармацевты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917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49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61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7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</a:tbl>
          </a:graphicData>
        </a:graphic>
      </p:graphicFrame>
      <p:sp>
        <p:nvSpPr>
          <p:cNvPr id="1785" name="Прямоугольник 3"/>
          <p:cNvSpPr/>
          <p:nvPr/>
        </p:nvSpPr>
        <p:spPr>
          <a:xfrm>
            <a:off x="160200" y="1943280"/>
            <a:ext cx="868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 об эксплуатации ФРМР на 31.12.2019 г. по сведениям о трудоустройстве по перечню организаций, заведенных в регистре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Прямоугольник 4"/>
          <p:cNvSpPr/>
          <p:nvPr/>
        </p:nvSpPr>
        <p:spPr>
          <a:xfrm>
            <a:off x="160200" y="4896000"/>
            <a:ext cx="3017880" cy="1704960"/>
          </a:xfrm>
          <a:prstGeom prst="rect">
            <a:avLst/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физических лиц, всего в отчете ФРМР на 31.12.2019 г. должно соответствовать сумме строк (1+143+217+139+213) по графе 9 т.1100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Прямоугольник 5"/>
          <p:cNvSpPr/>
          <p:nvPr/>
        </p:nvSpPr>
        <p:spPr>
          <a:xfrm>
            <a:off x="3249720" y="4896000"/>
            <a:ext cx="5592600" cy="1704960"/>
          </a:xfrm>
          <a:prstGeom prst="rect">
            <a:avLst/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физических лиц врачей, СМП, МПП, провизоров, фармацевтов в отчете ФРМР должно соответствовать стр. 1,143, 217, 139, 213 гр.9 т.1100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8" name="Прямая со стрелкой 6"/>
          <p:cNvCxnSpPr/>
          <p:nvPr/>
        </p:nvCxnSpPr>
        <p:spPr>
          <a:xfrm>
            <a:off x="3578040" y="4367160"/>
            <a:ext cx="1080" cy="618480"/>
          </a:xfrm>
          <a:prstGeom prst="straightConnector1">
            <a:avLst/>
          </a:prstGeom>
          <a:ln w="76320">
            <a:solidFill>
              <a:srgbClr val="4b866e"/>
            </a:solidFill>
            <a:miter/>
            <a:tailEnd len="med" type="triangle" w="med"/>
          </a:ln>
        </p:spPr>
      </p:cxnSp>
      <p:cxnSp>
        <p:nvCxnSpPr>
          <p:cNvPr id="1789" name="Прямая со стрелкой 14"/>
          <p:cNvCxnSpPr/>
          <p:nvPr/>
        </p:nvCxnSpPr>
        <p:spPr>
          <a:xfrm>
            <a:off x="8648280" y="4367160"/>
            <a:ext cx="1080" cy="618480"/>
          </a:xfrm>
          <a:prstGeom prst="straightConnector1">
            <a:avLst/>
          </a:prstGeom>
          <a:ln w="76320">
            <a:solidFill>
              <a:srgbClr val="4b866e"/>
            </a:solidFill>
            <a:miter/>
            <a:tailEnd len="med" type="triangle" w="med"/>
          </a:ln>
        </p:spPr>
      </p:cxnSp>
      <p:cxnSp>
        <p:nvCxnSpPr>
          <p:cNvPr id="1790" name="Прямая со стрелкой 15"/>
          <p:cNvCxnSpPr/>
          <p:nvPr/>
        </p:nvCxnSpPr>
        <p:spPr>
          <a:xfrm>
            <a:off x="7814880" y="4367160"/>
            <a:ext cx="1080" cy="618480"/>
          </a:xfrm>
          <a:prstGeom prst="straightConnector1">
            <a:avLst/>
          </a:prstGeom>
          <a:ln w="76320">
            <a:solidFill>
              <a:srgbClr val="4b866e"/>
            </a:solidFill>
            <a:miter/>
            <a:tailEnd len="med" type="triangle" w="med"/>
          </a:ln>
        </p:spPr>
      </p:cxnSp>
      <p:cxnSp>
        <p:nvCxnSpPr>
          <p:cNvPr id="1791" name="Прямая со стрелкой 16"/>
          <p:cNvCxnSpPr/>
          <p:nvPr/>
        </p:nvCxnSpPr>
        <p:spPr>
          <a:xfrm>
            <a:off x="6741720" y="4367160"/>
            <a:ext cx="1080" cy="618480"/>
          </a:xfrm>
          <a:prstGeom prst="straightConnector1">
            <a:avLst/>
          </a:prstGeom>
          <a:ln w="76320">
            <a:solidFill>
              <a:srgbClr val="4b866e"/>
            </a:solidFill>
            <a:miter/>
            <a:tailEnd len="med" type="triangle" w="med"/>
          </a:ln>
        </p:spPr>
      </p:cxnSp>
      <p:cxnSp>
        <p:nvCxnSpPr>
          <p:cNvPr id="1792" name="Прямая со стрелкой 17"/>
          <p:cNvCxnSpPr/>
          <p:nvPr/>
        </p:nvCxnSpPr>
        <p:spPr>
          <a:xfrm>
            <a:off x="5509800" y="4367160"/>
            <a:ext cx="1080" cy="618480"/>
          </a:xfrm>
          <a:prstGeom prst="straightConnector1">
            <a:avLst/>
          </a:prstGeom>
          <a:ln w="76320">
            <a:solidFill>
              <a:srgbClr val="4b866e"/>
            </a:solidFill>
            <a:miter/>
            <a:tailEnd len="med" type="triangle" w="med"/>
          </a:ln>
        </p:spPr>
      </p:cxnSp>
      <p:cxnSp>
        <p:nvCxnSpPr>
          <p:cNvPr id="1793" name="Прямая со стрелкой 18"/>
          <p:cNvCxnSpPr/>
          <p:nvPr/>
        </p:nvCxnSpPr>
        <p:spPr>
          <a:xfrm>
            <a:off x="2669760" y="4367160"/>
            <a:ext cx="1080" cy="618480"/>
          </a:xfrm>
          <a:prstGeom prst="straightConnector1">
            <a:avLst/>
          </a:prstGeom>
          <a:ln w="76320">
            <a:solidFill>
              <a:srgbClr val="4b866e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4" name=""/>
          <p:cNvGraphicFramePr/>
          <p:nvPr/>
        </p:nvGraphicFramePr>
        <p:xfrm>
          <a:off x="401760" y="1211400"/>
          <a:ext cx="8362800" cy="2611440"/>
        </p:xfrm>
        <a:graphic>
          <a:graphicData uri="http://schemas.openxmlformats.org/drawingml/2006/table">
            <a:tbl>
              <a:tblPr/>
              <a:tblGrid>
                <a:gridCol w="4343400"/>
                <a:gridCol w="563400"/>
                <a:gridCol w="1152720"/>
                <a:gridCol w="1152360"/>
                <a:gridCol w="1150920"/>
              </a:tblGrid>
              <a:tr h="27432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олжности и физические лица отделений (кабинетов) профилактики (из таблицы 1100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олжностей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Физических лиц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й (из стр.1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ведующий отделением (кабинетом) – врач по медицинской профилактике, врач-психотерапевт, врач-по медицинской профилактике*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го медицинского персонала (из стр.143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аршая медсестра, фельдшер (медицинская сестра, акушер)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a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95" name="Text Box 2"/>
          <p:cNvSpPr/>
          <p:nvPr/>
        </p:nvSpPr>
        <p:spPr>
          <a:xfrm>
            <a:off x="1486080" y="533520"/>
            <a:ext cx="62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а 1101 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Rectangle 194"/>
          <p:cNvSpPr/>
          <p:nvPr/>
        </p:nvSpPr>
        <p:spPr>
          <a:xfrm>
            <a:off x="399960" y="4052880"/>
            <a:ext cx="8347320" cy="20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e3eac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* </a:t>
            </a:r>
            <a:r>
              <a:rPr b="1" lang="ru-RU" sz="1600" spc="-1" strike="noStrike">
                <a:solidFill>
                  <a:srgbClr val="de7e18"/>
                </a:solidFill>
                <a:latin typeface="Times New Roman"/>
                <a:ea typeface="Arial"/>
              </a:rPr>
              <a:t>Приказ Минздрава России от 30.09.2015 №683н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e3eac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сведения в данной таблице не должны превышать данные в таблице 1100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e3eac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наличие штатных, занятых должностей и физических лиц в кабинете медицинской профилактики указывается в том случае, когда организован кабинет, то есть: имеются выделенные для него помещения, аппаратура и оборудование, осуществляется учет в установленном порядке, утверждено положение о кабинете (отделении)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e3eac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0" y="23558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Успехов в работе, коллеги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262626"/>
                </a:solidFill>
                <a:latin typeface="Times New Roman"/>
              </a:rPr>
              <a:t>Приказ Минздрава России от 20.12.2012 г. № 1183н «Номенклатура должностей медицинских и фармацевтических работников»</a:t>
            </a: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82240" cy="8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b4a18"/>
                </a:solidFill>
                <a:latin typeface="Century Gothic"/>
              </a:rPr>
              <a:t>Специальность</a:t>
            </a:r>
            <a:r>
              <a:rPr b="1" lang="ru-RU" sz="2000" spc="-1" strike="noStrike">
                <a:solidFill>
                  <a:srgbClr val="3f20f6"/>
                </a:solidFill>
                <a:latin typeface="Century Gothic"/>
              </a:rPr>
              <a:t>             </a:t>
            </a:r>
            <a:r>
              <a:rPr b="1" lang="ru-RU" sz="2400" spc="-1" strike="noStrike">
                <a:solidFill>
                  <a:srgbClr val="fb4a18"/>
                </a:solidFill>
                <a:latin typeface="Century Gothic"/>
              </a:rPr>
              <a:t>     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Должность       </a:t>
            </a:r>
            <a:r>
              <a:rPr b="1" lang="ru-RU" sz="2400" spc="-1" strike="noStrike">
                <a:solidFill>
                  <a:srgbClr val="fb4a18"/>
                </a:solidFill>
                <a:latin typeface="Century Gothic"/>
              </a:rPr>
              <a:t>                                        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graphicFrame>
        <p:nvGraphicFramePr>
          <p:cNvPr id="1655" name=""/>
          <p:cNvGraphicFramePr/>
          <p:nvPr/>
        </p:nvGraphicFramePr>
        <p:xfrm>
          <a:off x="465120" y="3151080"/>
          <a:ext cx="8305920" cy="2805120"/>
        </p:xfrm>
        <a:graphic>
          <a:graphicData uri="http://schemas.openxmlformats.org/drawingml/2006/table">
            <a:tbl>
              <a:tblPr/>
              <a:tblGrid>
                <a:gridCol w="3110040"/>
                <a:gridCol w="5195880"/>
              </a:tblGrid>
              <a:tr h="39672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b4a18"/>
                          </a:solidFill>
                          <a:latin typeface="Times New Roman"/>
                          <a:ea typeface="Times New Roman"/>
                        </a:rPr>
                        <a:t>Должность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b4a18"/>
                          </a:solidFill>
                          <a:latin typeface="Times New Roman"/>
                          <a:ea typeface="Times New Roman"/>
                        </a:rPr>
                        <a:t>Специальность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ы-гинекологи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ство и гинекология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 – иммунологи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я и иммунология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 клинической лабораторной диагностики 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иническая лабораторная диагностика, 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ая биохимия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6" name="AutoShape 4"/>
          <p:cNvSpPr/>
          <p:nvPr/>
        </p:nvSpPr>
        <p:spPr>
          <a:xfrm>
            <a:off x="3490920" y="1846440"/>
            <a:ext cx="1905120" cy="528480"/>
          </a:xfrm>
          <a:custGeom>
            <a:avLst/>
            <a:gdLst>
              <a:gd name="textAreaLeft" fmla="*/ 297720 w 1905120"/>
              <a:gd name="textAreaRight" fmla="*/ 1667160 w 1905120"/>
              <a:gd name="textAreaTop" fmla="*/ 132120 h 528480"/>
              <a:gd name="textAreaBottom" fmla="*/ 396360 h 5284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a530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Овал 6"/>
          <p:cNvSpPr/>
          <p:nvPr/>
        </p:nvSpPr>
        <p:spPr>
          <a:xfrm>
            <a:off x="403200" y="1670040"/>
            <a:ext cx="2666880" cy="838080"/>
          </a:xfrm>
          <a:prstGeom prst="ellipse">
            <a:avLst/>
          </a:prstGeom>
          <a:noFill/>
          <a:ln cap="rnd" w="31680">
            <a:solidFill>
              <a:srgbClr val="c00000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Овал 6"/>
          <p:cNvSpPr/>
          <p:nvPr/>
        </p:nvSpPr>
        <p:spPr>
          <a:xfrm>
            <a:off x="5627520" y="1660680"/>
            <a:ext cx="2819520" cy="990360"/>
          </a:xfrm>
          <a:prstGeom prst="ellipse">
            <a:avLst/>
          </a:prstGeom>
          <a:noFill/>
          <a:ln cap="rnd" w="31680">
            <a:solidFill>
              <a:srgbClr val="c00000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9" name=""/>
          <p:cNvGraphicFramePr/>
          <p:nvPr/>
        </p:nvGraphicFramePr>
        <p:xfrm>
          <a:off x="304920" y="990720"/>
          <a:ext cx="8686800" cy="5011560"/>
        </p:xfrm>
        <a:graphic>
          <a:graphicData uri="http://schemas.openxmlformats.org/drawingml/2006/table">
            <a:tbl>
              <a:tblPr/>
              <a:tblGrid>
                <a:gridCol w="3252600"/>
                <a:gridCol w="5434200"/>
              </a:tblGrid>
              <a:tr h="855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рач методист 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здравоохранения и общественное здоровье, Социальная гигиена и организация госсанэпидслужбы, Управление сестринской деятельностью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5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Врач приемного отделения 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ство и гинекология,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зиология-реаниматология, Гастроэнтерология, Гематология, Гериатрия,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Дерматовенерология, Детская кардиология, Детская онкология,  Детская урология-андрология, Детская хирургия, Детская эндокринология, Инфекционные болезни, Кардиология, Колопроктология, Неврология, Нейрохирургия, Неонатология, Нефрология, Онкология, Оториноларингология, Офтальмология, Педиатрия, Психиатрия, Психиатрия-наркология, Пульмонология, Ревматология, Сердечно-сосудистая хирургия, Скорая медицинская помощь, Терапия, Торакальная хирургия, Травматология и ортопедия, Урология, Фтизиатрия, Хирургия, Челюстно-лицевая хирургия, Эндокринология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0" name=""/>
          <p:cNvGraphicFramePr/>
          <p:nvPr/>
        </p:nvGraphicFramePr>
        <p:xfrm>
          <a:off x="228600" y="1371600"/>
          <a:ext cx="8686800" cy="4356000"/>
        </p:xfrm>
        <a:graphic>
          <a:graphicData uri="http://schemas.openxmlformats.org/drawingml/2006/table">
            <a:tbl>
              <a:tblPr/>
              <a:tblGrid>
                <a:gridCol w="3252960"/>
                <a:gridCol w="5433840"/>
              </a:tblGrid>
              <a:tr h="2654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рач статистик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едицинская кибернетика, Организация здравоохранения и общественное здоровье, Социальная гигиена и организация госсанэпидслужбы, Управление сестринской деятельностью 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9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ерапевт участковый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ечебное дело, 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щая врачебная практика (семейная медицина), 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ерапия 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1" name=""/>
          <p:cNvGraphicFramePr/>
          <p:nvPr/>
        </p:nvGraphicFramePr>
        <p:xfrm>
          <a:off x="490680" y="1371600"/>
          <a:ext cx="8196120" cy="4460760"/>
        </p:xfrm>
        <a:graphic>
          <a:graphicData uri="http://schemas.openxmlformats.org/drawingml/2006/table">
            <a:tbl>
              <a:tblPr/>
              <a:tblGrid>
                <a:gridCol w="3068640"/>
                <a:gridCol w="5127480"/>
              </a:tblGrid>
              <a:tr h="4460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Организаторы сестринского дела (стр.147)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Директор больницы (дома) сестринского ухода, хосписа, заведующий молочной кухней, главная медицинская сестра, главный фельдшер, главная акушерка, старшая медицинская сестра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2" name="TextBox 1"/>
          <p:cNvSpPr/>
          <p:nvPr/>
        </p:nvSpPr>
        <p:spPr>
          <a:xfrm>
            <a:off x="2524320" y="423720"/>
            <a:ext cx="32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НИМАНИЕ!!!!!!!!!!!!!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Прямоугольник 1"/>
          <p:cNvSpPr/>
          <p:nvPr/>
        </p:nvSpPr>
        <p:spPr>
          <a:xfrm>
            <a:off x="706320" y="274680"/>
            <a:ext cx="754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а 1100. Должности и физические лица медицинской организации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4" name=""/>
          <p:cNvGraphicFramePr/>
          <p:nvPr/>
        </p:nvGraphicFramePr>
        <p:xfrm>
          <a:off x="237960" y="1287360"/>
          <a:ext cx="8550360" cy="5054760"/>
        </p:xfrm>
        <a:graphic>
          <a:graphicData uri="http://schemas.openxmlformats.org/drawingml/2006/table">
            <a:tbl>
              <a:tblPr/>
              <a:tblGrid>
                <a:gridCol w="1339920"/>
                <a:gridCol w="297000"/>
                <a:gridCol w="815760"/>
                <a:gridCol w="744840"/>
                <a:gridCol w="747720"/>
                <a:gridCol w="617400"/>
                <a:gridCol w="660240"/>
                <a:gridCol w="600120"/>
                <a:gridCol w="943200"/>
                <a:gridCol w="892080"/>
                <a:gridCol w="892080"/>
              </a:tblGrid>
              <a:tr h="115740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,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,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9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- всего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женщин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05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рганизациях, расположенных в  сельской местности (из стр.1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5" name="Rectangle 96"/>
          <p:cNvSpPr/>
          <p:nvPr/>
        </p:nvSpPr>
        <p:spPr>
          <a:xfrm>
            <a:off x="1870200" y="4160880"/>
            <a:ext cx="7129440" cy="2585880"/>
          </a:xfrm>
          <a:prstGeom prst="rect">
            <a:avLst/>
          </a:prstGeom>
          <a:solidFill>
            <a:srgbClr val="d1d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Разница между графой 3 и суммой граф 5 и 7 составляют штатные должности организаций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особого типа (центры, бюро)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станции (отделения) скорой  медицинской помощи, станции (центры, отделения) переливания крови, санаторно- курортные организации, дома ребенка, молочные кухни и т.д.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 этом если такая организация имеет поликлинику (стационар), то штатные должности поликлиники (стационара) показываются по графе 5 (7) соответственно. Аналогично для граф по занятым должностям и физическим лицам.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Прямоугольник 1"/>
          <p:cNvSpPr/>
          <p:nvPr/>
        </p:nvSpPr>
        <p:spPr>
          <a:xfrm>
            <a:off x="733320" y="14616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а 1100. Должности и физические лица медицинской организа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7" name=""/>
          <p:cNvGraphicFramePr/>
          <p:nvPr/>
        </p:nvGraphicFramePr>
        <p:xfrm>
          <a:off x="250920" y="835200"/>
          <a:ext cx="8582040" cy="5235480"/>
        </p:xfrm>
        <a:graphic>
          <a:graphicData uri="http://schemas.openxmlformats.org/drawingml/2006/table">
            <a:tbl>
              <a:tblPr/>
              <a:tblGrid>
                <a:gridCol w="1460520"/>
                <a:gridCol w="393480"/>
                <a:gridCol w="808200"/>
                <a:gridCol w="731880"/>
                <a:gridCol w="730080"/>
                <a:gridCol w="728640"/>
                <a:gridCol w="749520"/>
                <a:gridCol w="728640"/>
                <a:gridCol w="771480"/>
                <a:gridCol w="663480"/>
                <a:gridCol w="816120"/>
              </a:tblGrid>
              <a:tr h="100440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,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,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-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женщин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4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рганизациях, расположенных в  сельской местности (из стр.1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69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стр.1): руководители организаций и их заместители (организаторы здравоохранения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8" name="Прямоугольник 3"/>
          <p:cNvSpPr/>
          <p:nvPr/>
        </p:nvSpPr>
        <p:spPr>
          <a:xfrm>
            <a:off x="2197080" y="3621240"/>
            <a:ext cx="6616800" cy="1065960"/>
          </a:xfrm>
          <a:prstGeom prst="rect">
            <a:avLst/>
          </a:prstGeom>
          <a:solidFill>
            <a:srgbClr val="e3ea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включаются сведения по медицинским организациям, их структурным подразделениям и филиалам, расположенным в сельских поселениях сельских муниципальных образований, а также в сельских населенных пунктах, входящих в состав городских поселений или городских округов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Rectangle 613"/>
          <p:cNvSpPr/>
          <p:nvPr/>
        </p:nvSpPr>
        <p:spPr>
          <a:xfrm>
            <a:off x="2241720" y="5181480"/>
            <a:ext cx="6600600" cy="838440"/>
          </a:xfrm>
          <a:prstGeom prst="rect">
            <a:avLst/>
          </a:prstGeom>
          <a:solidFill>
            <a:srgbClr val="fb93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главный врач, заместитель главного врача больничной организации показываются из граф 3, 4, 9 по графам 7, 8, 11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07:17:38Z</dcterms:created>
  <dc:creator>www.themegallery.com</dc:creator>
  <dc:description/>
  <dc:language>en-US</dc:language>
  <cp:lastModifiedBy>classuser</cp:lastModifiedBy>
  <cp:lastPrinted>2018-11-27T04:13:37Z</cp:lastPrinted>
  <dcterms:modified xsi:type="dcterms:W3CDTF">2019-12-08T11:12:14Z</dcterms:modified>
  <cp:revision>1153</cp:revision>
  <dc:subject/>
  <dc:title>ThemeGallery Power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e6b0000000000010242300207f6e001e0013c00</vt:lpwstr>
  </property>
</Properties>
</file>